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DA34-6168-4F6E-B63E-4C3426A8B112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C295-8FFC-4AEF-B0B0-EE7F39B70753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AE57-A925-4506-AC8F-0460080E4912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27D9-621A-4430-B098-29EA8C81BF15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C507-6313-4075-BB3D-C2E4536D35A0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D3C9-DB02-48A7-90DE-FB2A00585D6E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1BBA-6048-4EC8-B5C1-7E01FE19A4EA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5D39-F190-4AF3-8E12-5941A2D76884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B00A-A455-4E2D-BD3B-F8F791B1EF18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18E9-7C05-4BDF-9F17-B91DA03815A1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66AA-AB1A-48CB-8146-A07D82907701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e87845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5BD9-2A76-4259-AD3C-5C0D77FCA3F7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4361-CB79-442C-9FD8-EAAB0BB6B2C4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FA63-4C32-416C-9C94-038D2B8AA14A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FB12-82F3-4993-91EC-5A80FF1884C3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E087-D6CC-4245-AD5B-D8D5F4DF5E1B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D5F04-1848-4956-B86D-2C7ADA0B12DD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F94D-7565-4F90-8139-2158547C6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14360" y="666720"/>
            <a:ext cx="76867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80" y="1723680"/>
            <a:ext cx="88488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280" y="4251960"/>
            <a:ext cx="88488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0DF5-FEB1-4965-B460-9E0BF34E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14360" y="666720"/>
            <a:ext cx="76867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2280" y="1723680"/>
            <a:ext cx="43182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6840" y="1723680"/>
            <a:ext cx="43182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52280" y="4251960"/>
            <a:ext cx="43182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6840" y="4251960"/>
            <a:ext cx="43182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5D9F-85D0-48B8-BE55-ACA59F7D1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14360" y="666720"/>
            <a:ext cx="76867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2280" y="1723680"/>
            <a:ext cx="284904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44240" y="1723680"/>
            <a:ext cx="284904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36200" y="1723680"/>
            <a:ext cx="284904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52280" y="4251960"/>
            <a:ext cx="284904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44240" y="4251960"/>
            <a:ext cx="284904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36200" y="4251960"/>
            <a:ext cx="284904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4F9A-3C79-47B0-8777-9D22F9437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14360" y="666720"/>
            <a:ext cx="76867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52280" y="1723680"/>
            <a:ext cx="884880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14360" y="666720"/>
            <a:ext cx="76867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1723680"/>
            <a:ext cx="88488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14360" y="666720"/>
            <a:ext cx="76867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1723680"/>
            <a:ext cx="43182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6840" y="1723680"/>
            <a:ext cx="43182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14360" y="666720"/>
            <a:ext cx="76867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14360" y="666720"/>
            <a:ext cx="7686720" cy="31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14360" y="666720"/>
            <a:ext cx="76867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280" y="1723680"/>
            <a:ext cx="43182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6840" y="1723680"/>
            <a:ext cx="43182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2280" y="4251960"/>
            <a:ext cx="43182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14360" y="666720"/>
            <a:ext cx="76867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52280" y="1723680"/>
            <a:ext cx="884880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3E8C-EF36-4F9D-9C56-EE4DBFC4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14360" y="666720"/>
            <a:ext cx="76867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280" y="1723680"/>
            <a:ext cx="43182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6840" y="1723680"/>
            <a:ext cx="43182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6840" y="4251960"/>
            <a:ext cx="43182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14360" y="666720"/>
            <a:ext cx="76867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280" y="1723680"/>
            <a:ext cx="43182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6840" y="1723680"/>
            <a:ext cx="43182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280" y="4251960"/>
            <a:ext cx="88488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14360" y="666720"/>
            <a:ext cx="76867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1723680"/>
            <a:ext cx="88488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52280" y="4251960"/>
            <a:ext cx="88488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14360" y="666720"/>
            <a:ext cx="76867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1723680"/>
            <a:ext cx="43182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6840" y="1723680"/>
            <a:ext cx="43182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52280" y="4251960"/>
            <a:ext cx="43182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6840" y="4251960"/>
            <a:ext cx="43182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14360" y="666720"/>
            <a:ext cx="76867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280" y="1723680"/>
            <a:ext cx="284904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144240" y="1723680"/>
            <a:ext cx="284904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36200" y="1723680"/>
            <a:ext cx="284904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52280" y="4251960"/>
            <a:ext cx="284904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144240" y="4251960"/>
            <a:ext cx="284904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36200" y="4251960"/>
            <a:ext cx="284904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14360" y="666720"/>
            <a:ext cx="76867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280" y="1723680"/>
            <a:ext cx="88488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7350-22A5-4155-84AA-6B9C7536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14360" y="666720"/>
            <a:ext cx="76867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280" y="1723680"/>
            <a:ext cx="43182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6840" y="1723680"/>
            <a:ext cx="43182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147E-012E-45C2-8384-966EB753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14360" y="666720"/>
            <a:ext cx="76867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3584-2DEA-4BCA-B47E-D70355FD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14360" y="666720"/>
            <a:ext cx="7686720" cy="31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E5D2-7041-49C6-8D9E-9321F490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14360" y="666720"/>
            <a:ext cx="76867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723680"/>
            <a:ext cx="43182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6840" y="1723680"/>
            <a:ext cx="43182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80" y="4251960"/>
            <a:ext cx="43182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DC8B-AE1F-406E-A1AC-50E51176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14360" y="666720"/>
            <a:ext cx="76867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723680"/>
            <a:ext cx="43182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6840" y="1723680"/>
            <a:ext cx="43182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6840" y="4251960"/>
            <a:ext cx="43182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C807-4368-4FB5-8E58-664AF8C1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14360" y="666720"/>
            <a:ext cx="76867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723680"/>
            <a:ext cx="43182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6840" y="1723680"/>
            <a:ext cx="43182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280" y="4251960"/>
            <a:ext cx="8848800" cy="23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F4AE-8F01-4333-BFB4-DB066326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685800"/>
          </a:xfrm>
          <a:prstGeom prst="rect">
            <a:avLst/>
          </a:prstGeom>
          <a:solidFill>
            <a:srgbClr val="d7d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93720" y="831960"/>
            <a:ext cx="539640" cy="539640"/>
          </a:xfrm>
          <a:prstGeom prst="rect">
            <a:avLst/>
          </a:prstGeom>
          <a:solidFill>
            <a:srgbClr val="f299b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7600" y="831960"/>
            <a:ext cx="539640" cy="539640"/>
          </a:xfrm>
          <a:prstGeom prst="rect">
            <a:avLst/>
          </a:prstGeom>
          <a:solidFill>
            <a:srgbClr val="e8784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47600" y="171360"/>
            <a:ext cx="1076400" cy="5176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6673680"/>
            <a:ext cx="9144000" cy="18432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889840" y="6607080"/>
            <a:ext cx="216000" cy="216000"/>
          </a:xfrm>
          <a:prstGeom prst="rect">
            <a:avLst/>
          </a:prstGeom>
          <a:solidFill>
            <a:srgbClr val="f299b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672400" y="6607080"/>
            <a:ext cx="216000" cy="216000"/>
          </a:xfrm>
          <a:prstGeom prst="rect">
            <a:avLst/>
          </a:prstGeom>
          <a:solidFill>
            <a:srgbClr val="e87845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14360" y="666720"/>
            <a:ext cx="76867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52280" y="1723680"/>
            <a:ext cx="88488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e878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878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e878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e878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e878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3714840" y="6559560"/>
            <a:ext cx="213336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eb94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b94"/>
                </a:solidFill>
                <a:latin typeface="Verdana"/>
              </a:rPr>
              <a:t>October 7,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-360" y="6559560"/>
            <a:ext cx="28954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eb94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eb94"/>
                </a:solidFill>
                <a:latin typeface="Verdana"/>
              </a:rPr>
              <a:t>EURORAI-Seminar Rostow am 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81880" y="6559560"/>
            <a:ext cx="213336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eb94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eb94"/>
                </a:solidFill>
                <a:latin typeface="Verdana"/>
              </a:rPr>
              <a:t>page</a:t>
            </a:r>
            <a:r>
              <a:rPr b="0" lang="de-AT" sz="1000" spc="-1" strike="noStrike">
                <a:solidFill>
                  <a:srgbClr val="ffeb94"/>
                </a:solidFill>
                <a:latin typeface="Verdana"/>
              </a:rPr>
              <a:t> </a:t>
            </a:r>
            <a:fld id="{FCF38408-5799-4123-BB5B-565242000708}" type="slidenum">
              <a:rPr b="0" lang="de-AT" sz="1000" spc="-1" strike="noStrike">
                <a:solidFill>
                  <a:srgbClr val="ffeb94"/>
                </a:solidFill>
                <a:latin typeface="Verdana"/>
              </a:rPr>
              <a:t>&lt;number&gt;</a:t>
            </a:fld>
            <a:r>
              <a:rPr b="0" lang="de-AT" sz="1000" spc="-1" strike="noStrike">
                <a:solidFill>
                  <a:srgbClr val="ffeb94"/>
                </a:solidFill>
                <a:latin typeface="Verdana"/>
              </a:rPr>
              <a:t> / 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685800"/>
            <a:ext cx="9144000" cy="685800"/>
          </a:xfrm>
          <a:prstGeom prst="rect">
            <a:avLst/>
          </a:prstGeom>
          <a:solidFill>
            <a:srgbClr val="d7d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3720" y="831960"/>
            <a:ext cx="539640" cy="539640"/>
          </a:xfrm>
          <a:prstGeom prst="rect">
            <a:avLst/>
          </a:prstGeom>
          <a:solidFill>
            <a:srgbClr val="f299b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7600" y="831960"/>
            <a:ext cx="539640" cy="539640"/>
          </a:xfrm>
          <a:prstGeom prst="rect">
            <a:avLst/>
          </a:prstGeom>
          <a:solidFill>
            <a:srgbClr val="e8784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7600" y="171360"/>
            <a:ext cx="1076400" cy="517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6673680"/>
            <a:ext cx="9144000" cy="18432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889840" y="6607080"/>
            <a:ext cx="216000" cy="216000"/>
          </a:xfrm>
          <a:prstGeom prst="rect">
            <a:avLst/>
          </a:prstGeom>
          <a:solidFill>
            <a:srgbClr val="f299b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672400" y="6607080"/>
            <a:ext cx="216000" cy="216000"/>
          </a:xfrm>
          <a:prstGeom prst="rect">
            <a:avLst/>
          </a:prstGeom>
          <a:solidFill>
            <a:srgbClr val="e87845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311200"/>
            <a:ext cx="777240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587600" y="685800"/>
            <a:ext cx="7556400" cy="6858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e87845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e87845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e87845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9800" y="2311200"/>
            <a:ext cx="879156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udit of the municipal budget 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by the Regional Court of Audit of Upper Austri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92400" y="655200"/>
            <a:ext cx="68752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udit of the municipal budget by the Regional Court of Audit of Upper Austria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0080" y="1528560"/>
            <a:ext cx="882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spcBef>
                <a:spcPts val="1800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difference between audits done by the Regional Court of Audit of Upper Austria and supervisory audi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99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ndependent external financial control versus audit bound to instructions within the compulsory control of the provi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99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ystem and performance audit versus formal audit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800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recommendations and consulting versus instructions and orders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spcBef>
                <a:spcPts val="1400"/>
              </a:spcBef>
              <a:buNone/>
              <a:tabLst>
                <a:tab algn="l" pos="125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spcBef>
                <a:spcPts val="675"/>
              </a:spcBef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87845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e87845"/>
                </a:solidFill>
                <a:latin typeface="Verdana"/>
              </a:rPr>
              <a:t>The audits made by the Regional Court of Audit of Upper Austria go beyond a mere formal audit of the budget account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tary Club Stey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7CCB-9513-40E6-B504-745C147A05F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. Oktober 2010</a:t>
            </a: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11480" y="655200"/>
            <a:ext cx="68752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udit of the municipal budget by the Regional Court of Audit of Upper Austria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0080" y="1566720"/>
            <a:ext cx="8496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55960" indent="-255960">
              <a:spcBef>
                <a:spcPts val="499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ain focus of aud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alysis of the budgetary and financial sit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451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nalysis of changes and key data o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536120" indent="-219240">
              <a:spcBef>
                <a:spcPts val="400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budget resul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536120" indent="-219240">
              <a:spcBef>
                <a:spcPts val="400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main revenues and expenditur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536120" indent="-219240">
              <a:spcBef>
                <a:spcPts val="400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debt and debt servi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536120" indent="-219240">
              <a:spcBef>
                <a:spcPts val="400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level of cost coverage from economic entities in the budge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536120" indent="-219240">
              <a:spcBef>
                <a:spcPts val="400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ubsid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536120" indent="0">
              <a:spcBef>
                <a:spcPts val="249"/>
              </a:spcBef>
              <a:buNone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udit of the organi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451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ainly done by structured interview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536120" indent="-219240">
              <a:spcBef>
                <a:spcPts val="400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tructures, processes, cooper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0">
              <a:spcBef>
                <a:spcPts val="400"/>
              </a:spcBef>
              <a:buNone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ject audits of construction project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451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udit of the demand, planning, execution, cost controlling, final paym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tary Club Stey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3875-1F70-4CCC-88E9-C7676400EB1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. Oktober 2010</a:t>
            </a: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11480" y="655200"/>
            <a:ext cx="68752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udit of the municipal budget by the Regional Court of Audit of Upper Austria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0080" y="1680840"/>
            <a:ext cx="8496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ain focus of audits – public deb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bt in the narrower sen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inancial deb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00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classic debt in the main budget and in companies with market-oriented activit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00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Maastricht-relevance of debt or bo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249"/>
              </a:spcBef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bt in the broader sense inclu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utsourced deb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ash credi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ertain liabili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inancial obligations from alternative financing of investments (leasing, rent, PPP, etc.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87845"/>
                </a:solidFill>
                <a:latin typeface="Verdana"/>
              </a:rPr>
              <a:t>Official debts of municipalities only provide limited information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tary Club Stey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2EF5-566D-4014-85F8-7EF4D20151E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. Oktober 2010</a:t>
            </a: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92400" y="665280"/>
            <a:ext cx="6875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udit of the municipal budget by the Regional Court of Audit of Upper Austria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90080" y="1680840"/>
            <a:ext cx="8496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mportant audit statements 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25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financial situation of municipalities is generally difficul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25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budget account only provides incomplete information about the actual budgetary and financial situ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25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ue to outsourcing a comprehensive overview is hardly possi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25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rowing indebtedness is becoming more intranspar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25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mportant payment obligations for several years are not included in the closing of accounts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tary Club Stey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6FD8-2C52-46D3-AFE6-0D25DD2CF30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. Oktober 2010</a:t>
            </a: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11480" y="665280"/>
            <a:ext cx="6875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udit of the municipal budget by the Regional Court of Audit of Upper Austria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90080" y="1680840"/>
            <a:ext cx="8496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mportant audit statements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I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25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principle of annuality is often being evaded – expenditures are transferred to the following year(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25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udgets are not being kept to and do not correspond to the principle of budget trut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25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complete recording of assets and deb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25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udit of the budget account by the audit committee or the supervisory body can be influenced by self-intere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25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ternal-Control-System is realized to different degrees in the processe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25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st-awareness in the municipal administration is hardly exist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tary Club Stey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7B2F-228B-4636-B23A-82DDC46B253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. Oktober 2010</a:t>
            </a: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11480" y="655200"/>
            <a:ext cx="68752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udit of the municipal budget by the Regional Court of Audit of Upper Austria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0080" y="1680840"/>
            <a:ext cx="8496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mportant audit statements II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25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high subsidies between public administration entities are not coordinated, not transparent, mainly without clear objectives and often hidd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25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ransfer relations between public administration entities are becoming more intransparent and increasingly go to the expense of municipali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25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xpensive investments due to the building and the subsequent operating business strongly overburden the municipal budge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25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ossible cost-reductions due to inter-communal cooperation are not us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25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anagement in municipalities is strongly improv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spcBef>
                <a:spcPts val="524"/>
              </a:spcBef>
              <a:buNone/>
              <a:tabLst>
                <a:tab algn="l" pos="125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tary Club Stey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FA62-D8DC-48AB-81F0-E3D2FA465E4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. Oktober 2010</a:t>
            </a: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11480" y="655200"/>
            <a:ext cx="68752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udit of the municipal budget by the Regional Court of Audit of Upper Austria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90080" y="1680840"/>
            <a:ext cx="8496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mportant recommendations 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25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ustainable consolidation of the municipal budget by structural reforms and revenue-oriented savings is necessa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25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utsourced entities must be consolidated with the main budget and the essential financial figures at least at a gla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25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bt must be measured and presented according to economic criter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25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ll payment obligations for several years must be reported transparently in the closing of accou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tary Club Stey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5CE4-3778-4519-95C3-4018A7A1608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. Oktober 2010</a:t>
            </a: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11480" y="655200"/>
            <a:ext cx="68752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udit of the municipal budget by the Regional Court of Audit of Upper Austria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90080" y="1680840"/>
            <a:ext cx="8496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mportant recommendations I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25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udget principles such as budget truth and annuality have to become more importa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25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ssets and debts must be fully included and assess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25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ctivities from the audit committee have to be pushed – external audit of the budget account by a supervisory body have to be expand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25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ternal-Control-System has to be fully realized in the proces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25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st-awareness in the municipal administration has to be strengthened; cost accounting has to be used as controlling too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tary Club Stey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2802-A68C-4365-B19A-40E5F4C8242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. Oktober 2010</a:t>
            </a: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11480" y="655200"/>
            <a:ext cx="68752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udit of the municipal budget by the Regional Court of Audit of Upper Austria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81080" y="1471320"/>
            <a:ext cx="87724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1360" indent="-261360">
              <a:spcBef>
                <a:spcPts val="499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mportant recommendations II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spcBef>
                <a:spcPts val="300"/>
              </a:spcBef>
              <a:buNone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1125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ubsidies have to be designed in a target and effect oriented way, furthermore they must be coordinated between public administration uni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1125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ransfer relations between public administration units must be reduced – the responsibility for the job and the resources should be concentrated in one posi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1125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nstruction and subsequent cost from investments should be realistically estimated, and should be made transparent in a medium-term finance and investment pl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1125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ter-communal cooperation should be pushed in order to save cost and to further improve the quality of the administration's performa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1125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anagement and leadership must be strengthened in the municipal administr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tary Club Stey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7985-4F9C-4BA6-9B96-E9EB4A8F2F5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. Oktober 2010</a:t>
            </a: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11480" y="655200"/>
            <a:ext cx="68752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udit of the municipal budget by the Regional Court of Audit of Upper Austria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90080" y="1519200"/>
            <a:ext cx="879156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ummary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87845"/>
                </a:solidFill>
                <a:latin typeface="Verdana"/>
              </a:rPr>
              <a:t>	</a:t>
            </a:r>
            <a:br>
              <a:rPr sz="2400"/>
            </a:b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udits of communal budgets by the Court of Audit of Austria and the Regional Courts of Audit of Austria are necessary, in order 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urther improve the effectiveness and efficiency of municipalitie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valuate the interests of the province and municipalities in this context according to objective criter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87845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e87845"/>
                </a:solidFill>
                <a:latin typeface="Verdana"/>
              </a:rPr>
              <a:t>Audits of municipal budgets by independent financial controls promote economic allocation of means and overall structural public refor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tary Club Stey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8145-BDD6-4280-986B-721747B0D65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. Oktober 2010</a:t>
            </a: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00000" y="1994040"/>
            <a:ext cx="7939080" cy="42465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581280" y="304920"/>
            <a:ext cx="5281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8200" y="1530360"/>
            <a:ext cx="4572000" cy="13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5120">
              <a:lnSpc>
                <a:spcPct val="60000"/>
              </a:lnSpc>
              <a:spcBef>
                <a:spcPts val="1250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opulation: 1.4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95120">
              <a:lnSpc>
                <a:spcPct val="60000"/>
              </a:lnSpc>
              <a:spcBef>
                <a:spcPts val="1250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rea: 12,000 km</a:t>
            </a:r>
            <a:r>
              <a:rPr b="1" lang="en-GB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95120">
              <a:lnSpc>
                <a:spcPct val="60000"/>
              </a:lnSpc>
              <a:spcBef>
                <a:spcPts val="1250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444 municip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11480" y="622440"/>
            <a:ext cx="6875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Upper Austria – Basic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tary Club Stey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8671-F023-48E6-AA67-AD48397BA8D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. Oktober 2010</a:t>
            </a: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90680" y="719280"/>
            <a:ext cx="76867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gional Court of Audit of Upper Austria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ustria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860400" y="4405320"/>
            <a:ext cx="1781280" cy="17240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775480" y="1855800"/>
            <a:ext cx="174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47800" y="2398680"/>
            <a:ext cx="792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Verdana"/>
              </a:rPr>
              <a:t>Thank you very much for your atten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95640" y="4437000"/>
            <a:ext cx="4716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Verdana"/>
              </a:rPr>
              <a:t>Martin Mühlbachler, M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Verdana"/>
              </a:rPr>
              <a:t>Project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Oö. Landesrechnungsh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Promenade 31, 4020 Lin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email: martin.muehlbachler@lrh-ooe.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tary Club Stey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F309-321E-4AD1-A247-7314B005632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. Oktober 2010</a:t>
            </a: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20480" y="721800"/>
            <a:ext cx="687564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resentation of the audit of municipalities in Upper Austria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0440" y="1471320"/>
            <a:ext cx="881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751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udit committee of the local counci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obligator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spcBef>
                <a:spcPts val="374"/>
              </a:spcBef>
              <a:buNone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spcBef>
                <a:spcPts val="751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rovincial Government of Upper Austria within the local council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spcBef>
                <a:spcPts val="374"/>
              </a:spcBef>
              <a:buNone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spcBef>
                <a:spcPts val="751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ndependent financial contr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Court of Audit of Austria for big municipalities, starting from 10,000 inhabitants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Regional Court of Audit of Upper Austria – only if the Provincial Government of Upper Austria authorizes the Regional Court of Audit of Upper Austri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87845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e87845"/>
                </a:solidFill>
                <a:latin typeface="Verdana"/>
              </a:rPr>
              <a:t>Municipalities with less than 10,000 inhabitants are not subject to an independent public financial control - although the provinces of Austria have the right of initiative to authorize the Regional Courts of Audit to do audits of municipalities since 1.1.2011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87845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e87845"/>
                </a:solidFill>
                <a:latin typeface="Wingdings"/>
                <a:ea typeface="Wingdings"/>
              </a:rPr>
              <a:t></a:t>
            </a:r>
            <a:r>
              <a:rPr b="1" lang="en-GB" sz="1600" spc="-1" strike="noStrike">
                <a:solidFill>
                  <a:srgbClr val="e87845"/>
                </a:solidFill>
                <a:latin typeface="Verdana"/>
              </a:rPr>
              <a:t> </a:t>
            </a:r>
            <a:r>
              <a:rPr b="1" lang="en-GB" sz="1600" spc="-1" strike="noStrike">
                <a:solidFill>
                  <a:srgbClr val="e87845"/>
                </a:solidFill>
                <a:latin typeface="Verdana"/>
              </a:rPr>
              <a:t>therefore, the Regional Court of Audit of Upper Austria demands the right of initiative to audit municipalitie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tary Club Stey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67DC-4A0C-434E-B182-E7331E29658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. Oktober 2010</a:t>
            </a: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80960" y="666720"/>
            <a:ext cx="76867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rdinary budget’s balance from municipalities 2002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2492280"/>
            <a:ext cx="7994880" cy="33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15667" t="4803" r="27134" b="15283"/>
          <a:stretch/>
        </p:blipFill>
        <p:spPr>
          <a:xfrm>
            <a:off x="1398600" y="1514520"/>
            <a:ext cx="6040440" cy="51530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71600" y="5267160"/>
            <a:ext cx="2379600" cy="116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tary Club Stey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8FA7-B885-46DC-9680-91930EF89AE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. Oktober 2010</a:t>
            </a: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80960" y="666720"/>
            <a:ext cx="76867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rdinary budget’s balance from municipalities 2010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18867" t="5352" r="18802" b="5133"/>
          <a:stretch/>
        </p:blipFill>
        <p:spPr>
          <a:xfrm>
            <a:off x="1800360" y="1438200"/>
            <a:ext cx="5943600" cy="5213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71600" y="5267160"/>
            <a:ext cx="2379600" cy="116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tary Club Stey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76C1-B579-45C6-831E-38B1114CE48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. Oktober 2010</a:t>
            </a: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01400" y="721800"/>
            <a:ext cx="687564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udit of municipalities by audit committee and province’s supervis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90080" y="1804680"/>
            <a:ext cx="849636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udit 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andatory annual audit of the closing of accounts, especially budget account and debt as well as continuous audits of the budg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spcBef>
                <a:spcPts val="499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rovince’s supervi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udit of the budget and the closing of accounts from municipalities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75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udits with other main focuses of the municipal budget – however, outsourced companies are exclud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tary Club Stey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EC07-F419-4549-9546-697F475BC33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. Oktober 2010</a:t>
            </a: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11480" y="721800"/>
            <a:ext cx="68752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udit of municipalities by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udit committe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1000" y="1881360"/>
            <a:ext cx="8458200" cy="27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1800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benefits from auditing the budget and the closing of accou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99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mportant addition to the work of the audit committee and important basis for an effective use of the right of supervisio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99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ensures broadly consistent budgeting and accounting in municipalities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99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trengthens the trust from political decision makers, investors and citize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599"/>
              </a:spcBef>
              <a:buNone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tary Club Stey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D61D-18ED-4CCF-A769-094D6AB9E92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. Oktober 2010</a:t>
            </a: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11480" y="721800"/>
            <a:ext cx="68752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udit of municipalities by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rovince’s supervis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3480" y="1595160"/>
            <a:ext cx="87440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spcBef>
                <a:spcPts val="300"/>
              </a:spcBef>
              <a:buNone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spcBef>
                <a:spcPts val="1800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annual audit – from the point of view of the Regional Court of Audit of Upper Austr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99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basically established and reliable, however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99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he instructions of the supervisory body are partly too detailed and are in the area of conflict with the municipal autonomy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99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budget law based instructions and standards for the audit are given as well as interpreted and revised to a high extent by the supervisory body– promotes the interests of the province but makes it more difficult for nationwide comparison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99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he audit of the closing of accounts only provides a limited overview of the financial situation of the municipality because outsourced companies are exclud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tary Club Stey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568F-FC7E-476B-9DB4-AB23B1C5B24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. Oktober 2010</a:t>
            </a: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92400" y="655200"/>
            <a:ext cx="68752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udit of the municipal budget by the Regional Court of Audit of Upper Austria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0080" y="1833480"/>
            <a:ext cx="8820360" cy="27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2001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audit work in municipalities by the Regional Court of Audit of Upper Austria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99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municipal audits as an expert opinion; the Provincial Government - within their right of supervision – has to give an order for the audit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99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5 expert opinions per year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800"/>
              </a:spcBef>
              <a:buClr>
                <a:srgbClr val="e87845"/>
              </a:buClr>
              <a:buFont typeface="Wingdings" charset="2"/>
              <a:buChar char="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ince 2000 approx. 50 to 60 expert opinions were made in the area of municipalitie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tary Club Stey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9E53-752D-48CD-951C-2A8AF98FD67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. Oktober 2010</a:t>
            </a: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08487781</cp:lastModifiedBy>
  <cp:lastPrinted>2011-09-12T13:15:46Z</cp:lastPrinted>
  <dcterms:modified xsi:type="dcterms:W3CDTF">2011-09-12T13:15:48Z</dcterms:modified>
  <cp:revision>2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