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6.jpeg" ContentType="image/jpeg"/>
  <Override PartName="/ppt/media/image5.jpeg" ContentType="image/jpeg"/>
  <Override PartName="/ppt/media/image11.wmf" ContentType="image/x-wmf"/>
  <Override PartName="/ppt/media/image6.jpeg" ContentType="image/jpeg"/>
  <Override PartName="/ppt/media/image28.wmf" ContentType="image/x-wmf"/>
  <Override PartName="/ppt/media/image27.jpeg" ContentType="image/jpeg"/>
  <Override PartName="/ppt/media/image30.wmf" ContentType="image/x-wmf"/>
  <Override PartName="/ppt/media/image25.jpeg" ContentType="image/jpeg"/>
  <Override PartName="/ppt/media/image4.jpeg" ContentType="image/jpeg"/>
  <Override PartName="/ppt/media/image10.wmf" ContentType="image/x-wmf"/>
  <Override PartName="/ppt/media/image7.jpeg" ContentType="image/jpe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png" ContentType="image/png"/>
  <Override PartName="/ppt/media/image17.wmf" ContentType="image/x-wmf"/>
  <Override PartName="/ppt/media/image18.jpeg" ContentType="image/jpeg"/>
  <Override PartName="/ppt/media/image19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816F-6020-40DD-9AA9-4C3E838305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EF42-3933-42A6-9656-843BB93AD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F93-7BB1-42E2-A322-D5A158E5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6D0-34D9-4EDB-883F-F547D3D6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5E45-E24C-4C43-85A8-A5B4EC66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9C00-B770-401C-88BB-EBB11D45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4B6-90B1-46ED-9A78-DB6DABA3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BEF2-4EE3-4876-9494-1CFBA5E6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C16-B17A-4E02-A1ED-A31D96F4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F51-7802-4B04-B6A6-C04DA9C8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9C05-D26D-4C9E-8221-A9F251B9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114-CFF4-40DE-947D-48BDBB31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797-660B-4243-B542-036884D5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5D0-1770-4C6F-A602-14207537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242E-D4CE-4215-A92A-35972C775E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738360" y="928800"/>
            <a:ext cx="8929440" cy="73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Аудитор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четной палат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еспублики Татарстан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Аспирант НИИ системного анали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четной палаты Российской Федер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алеев Азат Рустемо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Об опыте организации и проведения контроля за использованием бюджетных средств и муниципальной собственности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на местном уров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рамках Межведомственного координационного сов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товится детальный обзор нарушений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недостат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ктуализируется Классификатор нарушений и недостатков, выявляемых органами государственного и муниципального 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i?id=39873740-57-72"/>
          <p:cNvPicPr/>
          <p:nvPr/>
        </p:nvPicPr>
        <p:blipFill>
          <a:blip r:embed="rId1"/>
          <a:stretch/>
        </p:blipFill>
        <p:spPr>
          <a:xfrm>
            <a:off x="7524720" y="1000080"/>
            <a:ext cx="1917720" cy="244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88520" y="1267920"/>
            <a:ext cx="921708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нцепция организ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нтроля 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еятельность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втономных, бюджет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 казенных учрежд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i?id=255125339-32-72"/>
          <p:cNvPicPr/>
          <p:nvPr/>
        </p:nvPicPr>
        <p:blipFill>
          <a:blip r:embed="rId1"/>
          <a:stretch/>
        </p:blipFill>
        <p:spPr>
          <a:xfrm>
            <a:off x="488880" y="1628640"/>
            <a:ext cx="2879640" cy="2421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i?id=305773781-00-72"/>
          <p:cNvPicPr/>
          <p:nvPr/>
        </p:nvPicPr>
        <p:blipFill>
          <a:blip r:embed="rId2"/>
          <a:stretch/>
        </p:blipFill>
        <p:spPr>
          <a:xfrm>
            <a:off x="6595920" y="4537080"/>
            <a:ext cx="2810160" cy="213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15800" y="1341000"/>
            <a:ext cx="89949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2007 году создан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вет контрольно-счетных органов Республики Татарста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007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2360520" y="2997360"/>
            <a:ext cx="5345280" cy="355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0160" y="544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онференция Союза МКСО России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03"/>
          <p:cNvPicPr/>
          <p:nvPr/>
        </p:nvPicPr>
        <p:blipFill>
          <a:blip r:embed="rId1"/>
          <a:stretch/>
        </p:blipFill>
        <p:spPr>
          <a:xfrm>
            <a:off x="1784520" y="1268280"/>
            <a:ext cx="6192720" cy="41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четная палата Республики Татарстан взаимодействует с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Научно-исследовательским институтом системного анализа Счетной палаты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MCj02984730000[1]"/>
          <p:cNvPicPr/>
          <p:nvPr/>
        </p:nvPicPr>
        <p:blipFill>
          <a:blip r:embed="rId1"/>
          <a:stretch/>
        </p:blipFill>
        <p:spPr>
          <a:xfrm>
            <a:off x="488880" y="3500280"/>
            <a:ext cx="2087640" cy="1619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MCj03013760000[1]"/>
          <p:cNvPicPr/>
          <p:nvPr/>
        </p:nvPicPr>
        <p:blipFill>
          <a:blip r:embed="rId2"/>
          <a:stretch/>
        </p:blipFill>
        <p:spPr>
          <a:xfrm>
            <a:off x="3944880" y="40053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MCj04325430000[1]"/>
          <p:cNvPicPr/>
          <p:nvPr/>
        </p:nvPicPr>
        <p:blipFill>
          <a:blip r:embed="rId3"/>
          <a:stretch/>
        </p:blipFill>
        <p:spPr>
          <a:xfrm>
            <a:off x="7184880" y="3860640"/>
            <a:ext cx="1657440" cy="10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60520" y="1341000"/>
            <a:ext cx="88502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четная палата Республики Татарст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разработал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тодические рекомендации по проведению проверок в государственных и муниципальных унитарных предприятиях, а также в открытых акционерных обществах с долей участия государства и муниципальных образов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тодические рекомендации по проведению аудита эффективности использования бюджетных средств при предоставлении государственных и муниципальных услу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тодические рекомендации по оценке эффективности систем внутреннего контроля главных администраторов бюджетных сред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60520" y="1268280"/>
            <a:ext cx="8850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Риски в деятельности муниципальных унитарных предприятий, хозяйственных обществ с долей муниципального образования в уставном капитал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i?id=484311322-07-72"/>
          <p:cNvPicPr/>
          <p:nvPr/>
        </p:nvPicPr>
        <p:blipFill>
          <a:blip r:embed="rId1"/>
          <a:stretch/>
        </p:blipFill>
        <p:spPr>
          <a:xfrm>
            <a:off x="488880" y="3429000"/>
            <a:ext cx="2089080" cy="155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i?id=17911826-15-72"/>
          <p:cNvPicPr/>
          <p:nvPr/>
        </p:nvPicPr>
        <p:blipFill>
          <a:blip r:embed="rId2"/>
          <a:stretch/>
        </p:blipFill>
        <p:spPr>
          <a:xfrm>
            <a:off x="3584520" y="3860640"/>
            <a:ext cx="2592360" cy="2073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i?id=510245843-53-72"/>
          <p:cNvPicPr/>
          <p:nvPr/>
        </p:nvPicPr>
        <p:blipFill>
          <a:blip r:embed="rId3"/>
          <a:stretch/>
        </p:blipFill>
        <p:spPr>
          <a:xfrm>
            <a:off x="6753240" y="4797360"/>
            <a:ext cx="2808360" cy="187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23440" y="13572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 этапе планирования контрольных мероприятий особое внимание Счетной палатой уделяется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ыявлению и анализу возможных риск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5095800" y="2928960"/>
            <a:ext cx="4027680" cy="3684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j0149481"/>
          <p:cNvPicPr/>
          <p:nvPr/>
        </p:nvPicPr>
        <p:blipFill>
          <a:blip r:embed="rId2"/>
          <a:stretch/>
        </p:blipFill>
        <p:spPr>
          <a:xfrm>
            <a:off x="1666800" y="3473280"/>
            <a:ext cx="2144880" cy="338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60160" y="1341000"/>
            <a:ext cx="89154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четная палата Республики Татарстан проводит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анализ нормативных правовых актов с целью выявления коррупциогенных факторов,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связанных с распределением, выделением и использованием бюджетных средств, а также объектов государственной и муниципальной собстве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i?id=3684561-28-72"/>
          <p:cNvPicPr/>
          <p:nvPr/>
        </p:nvPicPr>
        <p:blipFill>
          <a:blip r:embed="rId1"/>
          <a:stretch/>
        </p:blipFill>
        <p:spPr>
          <a:xfrm>
            <a:off x="560520" y="414972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i?id=4252751-58-72"/>
          <p:cNvPicPr/>
          <p:nvPr/>
        </p:nvPicPr>
        <p:blipFill>
          <a:blip r:embed="rId2"/>
          <a:stretch/>
        </p:blipFill>
        <p:spPr>
          <a:xfrm>
            <a:off x="6310440" y="4286160"/>
            <a:ext cx="3097080" cy="231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04520" y="1197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УДИТ ЭФФЕКТИВНОСТИ ИСПОЛЬЗОВАНИЯ ГОСУДАРСТВЕН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оритетное направление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четной палаты Республики Татарст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i?id=475713582-06-72"/>
          <p:cNvPicPr/>
          <p:nvPr/>
        </p:nvPicPr>
        <p:blipFill>
          <a:blip r:embed="rId1"/>
          <a:stretch/>
        </p:blipFill>
        <p:spPr>
          <a:xfrm>
            <a:off x="1023840" y="235728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i?id=194681641-35-72"/>
          <p:cNvPicPr/>
          <p:nvPr/>
        </p:nvPicPr>
        <p:blipFill>
          <a:blip r:embed="rId2"/>
          <a:stretch/>
        </p:blipFill>
        <p:spPr>
          <a:xfrm>
            <a:off x="5168880" y="2565360"/>
            <a:ext cx="3166920" cy="238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04520" y="1988640"/>
            <a:ext cx="8877240" cy="25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а местном уровне вопросы использования муниципальной собственности регламентируются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авовыми актами органов местного самоуправл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95440" y="1197000"/>
            <a:ext cx="8858160" cy="61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Российско-Британский семинар в Лондоне,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* Российской-британский семинар, посвященный аудиту эффективности использования медицинского оборудования (28 июня - 2 июля 2010г., Лондон)"/>
          <p:cNvPicPr/>
          <p:nvPr/>
        </p:nvPicPr>
        <p:blipFill>
          <a:blip r:embed="rId1"/>
          <a:stretch/>
        </p:blipFill>
        <p:spPr>
          <a:xfrm>
            <a:off x="2166840" y="1285920"/>
            <a:ext cx="5929560" cy="444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639800" y="6072120"/>
            <a:ext cx="6527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ажировка в Канаде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DSC02895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881360" y="1143000"/>
            <a:ext cx="6381720" cy="478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P1040432"/>
          <p:cNvPicPr/>
          <p:nvPr/>
        </p:nvPicPr>
        <p:blipFill>
          <a:blip r:embed="rId1"/>
          <a:stretch/>
        </p:blipFill>
        <p:spPr>
          <a:xfrm>
            <a:off x="1965240" y="1268280"/>
            <a:ext cx="6213600" cy="4660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523800" y="614376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ажировка в Сингапуре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800" y="1341360"/>
            <a:ext cx="899496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Российско-британский семинар по методике аудита эффективности использования средств в здравоохранении, 2009, г.Казан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71109БритАудит 054"/>
          <p:cNvPicPr/>
          <p:nvPr/>
        </p:nvPicPr>
        <p:blipFill>
          <a:blip r:embed="rId1"/>
          <a:stretch/>
        </p:blipFill>
        <p:spPr>
          <a:xfrm>
            <a:off x="776160" y="1700280"/>
            <a:ext cx="2298960" cy="3457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140W8446"/>
          <p:cNvPicPr/>
          <p:nvPr/>
        </p:nvPicPr>
        <p:blipFill>
          <a:blip r:embed="rId2"/>
          <a:stretch/>
        </p:blipFill>
        <p:spPr>
          <a:xfrm>
            <a:off x="3584520" y="1700280"/>
            <a:ext cx="518472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09240" y="1988640"/>
            <a:ext cx="9272520" cy="25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ктуальным направлением для проведения аудита эффективности является расходование муниципальными учреждениями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нергетических 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i?id=318460533-64-72"/>
          <p:cNvPicPr/>
          <p:nvPr/>
        </p:nvPicPr>
        <p:blipFill>
          <a:blip r:embed="rId1"/>
          <a:stretch/>
        </p:blipFill>
        <p:spPr>
          <a:xfrm>
            <a:off x="7024680" y="4429080"/>
            <a:ext cx="2637000" cy="21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88520" y="134136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четная палата Республики Татарстан оказывает содействие во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недрении аудита эффективности на муниципальном уров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j0301252"/>
          <p:cNvPicPr/>
          <p:nvPr/>
        </p:nvPicPr>
        <p:blipFill>
          <a:blip r:embed="rId1"/>
          <a:stretch/>
        </p:blipFill>
        <p:spPr>
          <a:xfrm>
            <a:off x="5881680" y="4143240"/>
            <a:ext cx="3737160" cy="2533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i?id=23409014-08-72"/>
          <p:cNvPicPr/>
          <p:nvPr/>
        </p:nvPicPr>
        <p:blipFill>
          <a:blip r:embed="rId2"/>
          <a:stretch/>
        </p:blipFill>
        <p:spPr>
          <a:xfrm>
            <a:off x="1166760" y="4143240"/>
            <a:ext cx="3097440" cy="231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униципальные КСО прове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удит эффективности по следующим направлени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88880" y="1268280"/>
            <a:ext cx="905832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эффективность использования бюджетными учреждениями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энергетических ресурсов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укрепление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материально-технической базы, компьютеризация, внедрение информационных технологий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 в образовательных учреждениях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формирование и расходование средств по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риносящей доход деятельности, эффективность использования объектов недвижимости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модернизация и реформирование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жилищно-коммунального хозяйства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модернизация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здравоохранения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физкультурно-спортивной и оздоровительной работы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 среди детей и подростков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38000" y="2571840"/>
            <a:ext cx="8283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2095560" y="3571920"/>
          <a:ext cx="5657760" cy="19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3571920"/>
                    <a:ext cx="565776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04520" y="1988640"/>
            <a:ext cx="8877240" cy="25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Функции по управлению муниципальным имуществом, земельными ресурсами возложены на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алаты земельных и имущественных отношений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, а осуществление внешнего контроля за законностью и эффективностью использования муниципальной собственности – на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муниципальные КС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04520" y="1988640"/>
            <a:ext cx="8877240" cy="25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 соответствии с бюджетным законодательством Счетная палата Республики Татарстан должна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аз в два год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проводить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нешние проверки высокодотационных муниципальных образова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04520" y="1988640"/>
            <a:ext cx="8877240" cy="25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иски при передаче муниципального имущества и земельных ресурсов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в арен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i?id=46519643-69-72"/>
          <p:cNvPicPr/>
          <p:nvPr/>
        </p:nvPicPr>
        <p:blipFill>
          <a:blip r:embed="rId1"/>
          <a:stretch/>
        </p:blipFill>
        <p:spPr>
          <a:xfrm>
            <a:off x="3944880" y="4268880"/>
            <a:ext cx="1579680" cy="225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04520" y="1988640"/>
            <a:ext cx="8877240" cy="25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иски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и реализации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муниципального имущества и земельных 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i?id=46519643-69-72"/>
          <p:cNvPicPr/>
          <p:nvPr/>
        </p:nvPicPr>
        <p:blipFill>
          <a:blip r:embed="rId1"/>
          <a:stretch/>
        </p:blipFill>
        <p:spPr>
          <a:xfrm>
            <a:off x="3944880" y="4268880"/>
            <a:ext cx="1579680" cy="225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09240" y="1988640"/>
            <a:ext cx="9272520" cy="25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ри выявлении нарушений Счетная палата направляет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едставление в адрес уполномоченных органов, материалы проверки – в Прокурату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09240" y="1988640"/>
            <a:ext cx="9272520" cy="25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нтрольными органами Республики Татарстан особое внимание уделяется проведению мероприятий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профилактического харак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238560" y="4500720"/>
            <a:ext cx="2935080" cy="194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8880" y="5300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седани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жведомственного координационного совета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вопросам государственного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инансового контр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МКС-первый"/>
          <p:cNvPicPr/>
          <p:nvPr/>
        </p:nvPicPr>
        <p:blipFill>
          <a:blip r:embed="rId1"/>
          <a:stretch/>
        </p:blipFill>
        <p:spPr>
          <a:xfrm>
            <a:off x="1857240" y="1341360"/>
            <a:ext cx="6481800" cy="360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6:43:37Z</dcterms:created>
  <dc:creator>Your User Name</dc:creator>
  <dc:description/>
  <dc:language>en-US</dc:language>
  <cp:lastModifiedBy>User</cp:lastModifiedBy>
  <dcterms:modified xsi:type="dcterms:W3CDTF">2011-10-07T03:33:37Z</dcterms:modified>
  <cp:revision>101</cp:revision>
  <dc:subject/>
  <dc:title>Слайд 1</dc:title>
</cp:coreProperties>
</file>