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EDA-9D24-4A22-AFE1-CA1B9A93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735-2763-42A9-AF4C-702A390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DCC-D1B2-4CC5-B606-C4167F74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807-8DED-418C-9AEE-84B55924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8AF-800B-45B9-AB41-6ED6C2E4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C12-4635-4498-9574-7E2A828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863-BA00-4C00-B395-BFC210B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95F-6B04-410F-86DB-F133940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6AE-45ED-4022-9201-BE6A40C0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B61-6476-43A8-8174-F0751FC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8D8-E0A1-4228-965B-3FB825B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50E-72C3-418B-BBA4-1D23AA7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C50-DFDE-4CE2-AA67-29904B49D9D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9" descr="lupa kopia.gif"/>
          <p:cNvPicPr/>
          <p:nvPr/>
        </p:nvPicPr>
        <p:blipFill>
          <a:blip r:embed="rId1"/>
          <a:stretch/>
        </p:blipFill>
        <p:spPr>
          <a:xfrm>
            <a:off x="4356000" y="3660840"/>
            <a:ext cx="4403880" cy="2360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52472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uditing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property management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f local authorities in 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50920" y="5229360"/>
            <a:ext cx="4824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niel Jurewi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ber of the Bo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1844280"/>
            <a:ext cx="73087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comprehensive aud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financial management of each local authority must be performed at least once every four year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udits are performed according to a uniform, accepted by all the chambers, audit topic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oughout the audits 10 topic groups are covered. One of the them is property management.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19280" y="259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ts performed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gional Chambers of Audit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5280" y="1916280"/>
            <a:ext cx="730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lem-focused audits are performed to cover selected audit aspects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int agenda audits (referred to as coordinated audits) are performed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rsuant to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agreed audit agenda, implemented all across the country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-hoc audits are performed, if need b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 general, upon a request of other institutions or even upon complaints of the citizens.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9280" y="259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ts perform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gional Chambers of Audit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perty audit objectives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74516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minating the irregularities and their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nteracting the emergence of the irregula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creasing the revenues generated from property by local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5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etailed audit objectives include investigat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75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mpliance with the statutory competences of local authorities bodies in the aspect of proper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mpliance with the provisions of procedures in terms of disposal and making the property available to oth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method of defining, collecting and debt-collecting the revenues from propert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5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etailed audit objectives include investigat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915920"/>
            <a:ext cx="75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adequacy of granting payment relief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quacy of property recor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mpliance with the statutory inventory principles and its settlemen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mmovable property sale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rregul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5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 informing the public of the list of immovable property allocated for s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viding incomplete data in th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nnouncements ma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e of immovable property without a valid estimation made by the property expe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wering the immovable property sale pr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justified withdrawal from the tender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perty tenancy and lease irregularities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75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 informing the public of the list of immovable property allocated for tenancy or lea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ing into tenancy or lease contracts for unlimited period or more than 3 yea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dequate defining of the pay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dequate granting of repayment r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bt-collecting aband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5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perty recording irregul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rding the property data incompliant with the provisions of la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ventory and its settlement abandon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ying inadequate depreciation r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equate acceptance and handing-over of respective proper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equate property condition data recor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 recording all the fixed as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5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dits effects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hanced transparency of l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c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ies property manag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ed revenu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the proper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cal community 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619280" y="1413000"/>
            <a:ext cx="752472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az 2" descr="lupa kopia.gif"/>
          <p:cNvPicPr/>
          <p:nvPr/>
        </p:nvPicPr>
        <p:blipFill>
          <a:blip r:embed="rId1"/>
          <a:stretch/>
        </p:blipFill>
        <p:spPr>
          <a:xfrm>
            <a:off x="4356000" y="3660840"/>
            <a:ext cx="44038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0000004768372">
                                      <p:cBhvr additive="repl">
                                        <p:cTn id="3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ocal authorities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000" y="2133720"/>
            <a:ext cx="6994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ural resour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frastructure and asse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man resources and cultural heri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5247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ocal authorities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000" y="1989000"/>
            <a:ext cx="6994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e for sustainable development polic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or affecting the revenues and expendi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8487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asks of Polish local authorities 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n terms of their property</a:t>
            </a: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management</a:t>
            </a: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18920" y="2349000"/>
            <a:ext cx="70563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cal authorities property in Poland covers the rights of ownership and other property rights of respective local authorities and the property of other local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ies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gal persons, including compan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cal authority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owner, enjoys an unrestricted property management right defined by law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524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asks of Polish local authorities 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n terms </a:t>
            </a: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ir property management</a:t>
            </a: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19280" y="2565000"/>
            <a:ext cx="7524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mmovable proper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ludes the immovable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erty owned by the local authority not under perpetual usufruct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the immovable property under perpetual usufru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cal authority’s immovable property is managed by its executive body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596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asks of Polish local authorities </a:t>
            </a: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n terms of their property management</a:t>
            </a: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3789000"/>
            <a:ext cx="73087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loping an immovable property record and informing the public of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forming a tender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3"/>
          <p:cNvSpPr/>
          <p:nvPr/>
        </p:nvSpPr>
        <p:spPr>
          <a:xfrm>
            <a:off x="1692360" y="249228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ligations connected with the sale or rental of th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1773000"/>
            <a:ext cx="7451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essential that local authorities have complete and reliable knowledge on the property they manag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perty status must be documented in book-k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19280" y="404640"/>
            <a:ext cx="75247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ocal authorities property recording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ole tekstowe 3"/>
          <p:cNvSpPr/>
          <p:nvPr/>
        </p:nvSpPr>
        <p:spPr>
          <a:xfrm>
            <a:off x="1692360" y="393372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ccounts of the reporting period must be entered with every event which occurred over tha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404640"/>
            <a:ext cx="75247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ocal authorities property recording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5"/>
          <p:cNvSpPr/>
          <p:nvPr/>
        </p:nvSpPr>
        <p:spPr>
          <a:xfrm>
            <a:off x="1692360" y="195912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ccounts should be kept with due diligence, error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es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transparently and on day-to-day  b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6"/>
          <p:cNvSpPr/>
          <p:nvPr/>
        </p:nvSpPr>
        <p:spPr>
          <a:xfrm>
            <a:off x="1692360" y="3141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l authorities are obliged to perform and to settle the property inventory compliant with the Accounting 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5280" y="1483920"/>
            <a:ext cx="730872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udits by the chambers are performed via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t inspectors according to two criteria: 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compliance with the law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iance of the documenta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 the real state of affairs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 for the state government administration tasks, performed by local authorities, the chamber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entitled to perform audits, including additional criteria: purposefulness, diligence and economic prudence.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5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dits performed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Regional Chambers of Audit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16:00Z</dcterms:created>
  <dc:creator>Daniel_Jurewicz</dc:creator>
  <dc:description/>
  <dc:language>en-US</dc:language>
  <cp:lastModifiedBy>SEKRETARIAT</cp:lastModifiedBy>
  <dcterms:modified xsi:type="dcterms:W3CDTF">2011-10-04T10:53:13Z</dcterms:modified>
  <cp:revision>135</cp:revision>
  <dc:subject/>
  <dc:title>Rola Regionalnych Izb Obrachunkowych w polityce samorządów </dc:title>
</cp:coreProperties>
</file>