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3C7FB-6187-4003-9A33-472855C0B82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ie Auswahl der betriebswirtschaftlichen Kennzahlen erfolgt in Anlehnung an die Arbeitshilfe 42 „Insolvenzvorsorge und Krisenmanagement in den Wohnungsunternehmen“ des Bundesverbandes deutscher Wohnungsunterneh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D960D-C4F9-4888-B655-45CAE27E759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95720" cy="374652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06480" y="4730760"/>
            <a:ext cx="49845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84C84-1072-4A1B-87B4-D4CC19CAAF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826776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38120" y="4390920"/>
            <a:ext cx="826776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FEA41-2797-4142-9715-585A00F3D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3812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60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0AFA1-4293-415F-BCF0-765E33C4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3520" y="238104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8920" y="238104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38120" y="439092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3520" y="439092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8920" y="439092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2CDC6-22A1-4718-87D6-3769CA7A33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44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38120" y="437760"/>
            <a:ext cx="665496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00844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812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844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D656A-5AA4-44CE-81F0-D11799163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60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38120" y="4390920"/>
            <a:ext cx="826776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826776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38120" y="4390920"/>
            <a:ext cx="826776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3812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60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3520" y="238104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8920" y="238104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38120" y="439092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3520" y="439092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8920" y="439092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2FA88-432E-41E6-89C9-D84432EE0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DF6DE-1628-44BB-B272-3966FBFD6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A5776-D95E-41C9-A2A8-79D0A91F2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38120" y="437760"/>
            <a:ext cx="665496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0084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FBADE-5CE9-4519-9C46-BE0292FBC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3812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E5BCA-62DD-40EC-89E2-8F275657F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60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FE9B1-1C06-42BD-9883-DA2A80E60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38120" y="4390920"/>
            <a:ext cx="826776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5523E-79DE-4D6A-B970-286C2D7DD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4360" y="6229440"/>
            <a:ext cx="763272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284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28480"/>
                </a:solidFill>
                <a:latin typeface="Times New Roman"/>
              </a:rPr>
              <a:t>|  </a:t>
            </a:r>
            <a:fld id="{5FB3D588-EE8F-4D0E-A2CE-390099046757}" type="datetime3">
              <a:rPr b="0" lang="de-DE" sz="1200" spc="-1" strike="noStrike">
                <a:solidFill>
                  <a:srgbClr val="828480"/>
                </a:solidFill>
                <a:latin typeface="Times New Roman"/>
              </a:rPr>
              <a:t>29. Juli 2026</a:t>
            </a:fld>
            <a:r>
              <a:rPr b="0" lang="de-DE" sz="1200" spc="-1" strike="noStrike">
                <a:solidFill>
                  <a:srgbClr val="828480"/>
                </a:solidFill>
                <a:latin typeface="Times New Roman"/>
              </a:rPr>
              <a:t>  | </a:t>
            </a:r>
            <a:r>
              <a:rPr b="0" lang="en-US" sz="1200" spc="-1" strike="noStrike">
                <a:solidFill>
                  <a:srgbClr val="008444"/>
                </a:solidFill>
                <a:latin typeface="Times New Roman"/>
              </a:rPr>
              <a:t>©</a:t>
            </a:r>
            <a:r>
              <a:rPr b="0" lang="de-DE" sz="1200" spc="-1" strike="noStrike">
                <a:solidFill>
                  <a:srgbClr val="008444"/>
                </a:solidFill>
                <a:latin typeface="Times New Roman"/>
              </a:rPr>
              <a:t>Prof. Dr. Karl-Heinz Binus, Court of Audit of Saxony: Municipal Asset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0" y="6229440"/>
            <a:ext cx="611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284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0CE3B-C08F-464E-AE48-485DF663289E}" type="slidenum">
              <a:rPr b="0" lang="en-US" sz="1200" spc="-1" strike="noStrike">
                <a:solidFill>
                  <a:srgbClr val="8284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2" marL="1434960" indent="-35388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3" marL="1969920" indent="-35532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4" marL="2517840" indent="-36828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5" marL="2517840" indent="-368280">
              <a:spcBef>
                <a:spcPts val="2001"/>
              </a:spcBef>
              <a:buClr>
                <a:srgbClr val="333333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6" marL="2517840" indent="-368280">
              <a:spcBef>
                <a:spcPts val="2001"/>
              </a:spcBef>
              <a:buClr>
                <a:srgbClr val="333333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989760" y="438120"/>
            <a:ext cx="1716120" cy="51444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5527800" y="401760"/>
            <a:ext cx="3274920" cy="5461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6381720"/>
            <a:ext cx="914400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-1440" y="1830240"/>
            <a:ext cx="9145440" cy="5038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rcRect l="0" t="33067" r="0" b="0"/>
          <a:stretch/>
        </p:blipFill>
        <p:spPr>
          <a:xfrm>
            <a:off x="1440" y="22320"/>
            <a:ext cx="9144000" cy="23810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38120" y="964800"/>
            <a:ext cx="66549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5527800" y="401760"/>
            <a:ext cx="3274920" cy="546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444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8444"/>
              </a:solidFill>
              <a:latin typeface="Arial"/>
            </a:endParaRPr>
          </a:p>
          <a:p>
            <a:pPr lvl="1" marL="457200" indent="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2" marL="914400" indent="166680" algn="ctr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3" marL="1371600" indent="243000" algn="ctr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4" marL="1828800" indent="320760" algn="ctr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5" marL="1828800" indent="320760">
              <a:spcBef>
                <a:spcPts val="400"/>
              </a:spcBef>
              <a:buClr>
                <a:srgbClr val="333333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6" marL="1828800" indent="320760">
              <a:spcBef>
                <a:spcPts val="400"/>
              </a:spcBef>
              <a:buClr>
                <a:srgbClr val="333333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translate.googleusercontent.com/translate_c?hl=en&amp;prev=/search%3Fq%3Dorganisationshoheit%2Bgemeinde%26hl%3Den%26prmd%3Divnsb&amp;rurl=translate.google.com&amp;sl=de&amp;u=http://www.uni-protokolle.de/Lexikon/Gemeindeverband.html&amp;usg=ALkJrhiLVhj71wrq-5XjqBobi7Xta8DC9g" TargetMode="External"/><Relationship Id="rId2" Type="http://schemas.openxmlformats.org/officeDocument/2006/relationships/hyperlink" Target="http://translate.googleusercontent.com/translate_c?hl=en&amp;prev=/search%3Fq%3Dorganisationshoheit%2Bgemeinde%26hl%3Den%26prmd%3Divnsb&amp;rurl=translate.google.com&amp;sl=de&amp;u=http://www.uni-protokolle.de/Lexikon/GG.html&amp;usg=ALkJrhgKNXnk-kTf-aWX0FF8QYb_ilNviA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38120" y="965160"/>
            <a:ext cx="6654960" cy="9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unicipal Asset Management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pecially real estate, property and apar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69760" y="1052640"/>
            <a:ext cx="66546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eparation of audit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2600" y="1780920"/>
            <a:ext cx="826740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Arial"/>
              </a:rPr>
              <a:t>Evaluated documents et. al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Information on own and external housing stock,</a:t>
            </a: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rental situation</a:t>
            </a: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key figures of housing sector</a:t>
            </a: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key figures of assets and earnings posi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Reports of local audi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Risk management report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Reports of the auditor of annual and management report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Calculations of own administrative cost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Price calculations for external administra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Questionnaire of the court of audi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B2C3D-66CE-49DA-8EEB-8631403D263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B21D2E-8B1A-46EF-B68E-934AF9C2BEE3}" type="datetime3">
              <a:rPr lang="en-US"/>
              <a:t>July 29, 20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69760" y="765000"/>
            <a:ext cx="66546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udit results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2600" y="1741320"/>
            <a:ext cx="8267400" cy="384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Inadequate or lack of local audi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Only approximately 22 % of the local audit reports in line with statutory requirement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Only 3 of 18 local undertakings provided a risk report based on an early warning system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Failures in risk management and related report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Evaluation of key figure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38D31-25B1-42C9-AC0C-76D00DAEB81C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FFFCD7-DAB3-4CE8-A6B1-9D5E462492E2}" type="datetime3">
              <a:rPr lang="en-US"/>
              <a:t>July 29, 20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69760" y="692280"/>
            <a:ext cx="66546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udi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2600" y="1773000"/>
            <a:ext cx="8267400" cy="431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33"/>
                </a:solidFill>
                <a:latin typeface="Arial"/>
              </a:rPr>
              <a:t>Equity ratio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(= equity/total assets)</a:t>
            </a:r>
            <a:br>
              <a:rPr sz="1600"/>
            </a:b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556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cc0000"/>
                </a:solidFill>
                <a:latin typeface="Arial"/>
              </a:rPr>
              <a:t>Endangerment of the stock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&lt; 10 %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556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cc00"/>
                </a:solidFill>
                <a:latin typeface="Arial"/>
              </a:rPr>
              <a:t>Impairment of the development </a:t>
            </a:r>
            <a:r>
              <a:rPr b="1" lang="en-GB" sz="16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cc00"/>
                </a:solidFill>
                <a:latin typeface="Arial"/>
              </a:rPr>
              <a:t>10-15 %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556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Cut off date of audit: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1 local undertaking &lt; 10 %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556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cc00"/>
                </a:solidFill>
                <a:latin typeface="Arial"/>
              </a:rPr>
              <a:t>2 local undertakings 10 – 15 %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556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8444"/>
                </a:solidFill>
                <a:latin typeface="Arial"/>
              </a:rPr>
              <a:t>15 local undertakings &gt; 50 %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556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Wingdings"/>
                <a:ea typeface="Wingdings"/>
              </a:rPr>
              <a:t>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Good equity capital ratio of most of the local undertaking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249B0-C7A5-42FF-B958-5B1608DBA44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301B7B-BC78-4374-9868-F3B34BE85DAE}" type="datetime3">
              <a:rPr lang="en-US"/>
              <a:t>July 29, 20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69760" y="836280"/>
            <a:ext cx="6654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udi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2600" y="1773360"/>
            <a:ext cx="826740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33"/>
                </a:solidFill>
                <a:latin typeface="Arial"/>
              </a:rPr>
              <a:t>Return on total assets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(= annual results + interest on borrowed capital/total assets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556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</a:rPr>
              <a:t>Endangerment of the stock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&lt; 3 %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556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cc00"/>
                </a:solidFill>
                <a:latin typeface="Arial"/>
              </a:rPr>
              <a:t>Impairment of the development </a:t>
            </a:r>
            <a:r>
              <a:rPr b="1" lang="en-GB" sz="16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cc00"/>
                </a:solidFill>
                <a:latin typeface="Arial"/>
              </a:rPr>
              <a:t> 3 - 6 %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556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Cut off date for audit: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8 local undertakings &lt; 3 %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556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cc00"/>
                </a:solidFill>
                <a:latin typeface="Arial"/>
              </a:rPr>
              <a:t>3 local undertakings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ffcc00"/>
                </a:solidFill>
                <a:latin typeface="Arial"/>
              </a:rPr>
              <a:t>3 – 6 %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556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8444"/>
                </a:solidFill>
                <a:latin typeface="Arial"/>
              </a:rPr>
              <a:t>7 </a:t>
            </a:r>
            <a:r>
              <a:rPr b="1" lang="en-GB" sz="1600" spc="-1" strike="noStrike">
                <a:solidFill>
                  <a:srgbClr val="009900"/>
                </a:solidFill>
                <a:latin typeface="Arial"/>
              </a:rPr>
              <a:t>local undertakings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8444"/>
                </a:solidFill>
                <a:latin typeface="Arial"/>
              </a:rPr>
              <a:t>&gt; 6 %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2001"/>
              </a:spcBef>
              <a:buClr>
                <a:srgbClr val="008444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Return on total assets inadequa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2001"/>
              </a:spcBef>
              <a:buClr>
                <a:srgbClr val="008444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Urgent need for action, otherwise danger of equity consumptions in the medium-term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7ADF8-C17A-4815-A125-F5E3E61B673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0E5F8D-AE32-4220-A34A-44D392A7C6CF}" type="datetime3">
              <a:rPr lang="en-US"/>
              <a:t>July 29, 20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69760" y="909720"/>
            <a:ext cx="66546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udi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2600" y="1773000"/>
            <a:ext cx="8267400" cy="43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33"/>
                </a:solidFill>
                <a:latin typeface="Arial"/>
              </a:rPr>
              <a:t>Debt service coverage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(= proceeds of basic rent/expenses for interest and scheduled repayment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556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Endangerment of the stock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&gt; 65 %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556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cc00"/>
                </a:solidFill>
                <a:latin typeface="Arial"/>
              </a:rPr>
              <a:t>Impairment of the development </a:t>
            </a:r>
            <a:r>
              <a:rPr b="1" lang="en-GB" sz="16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cc00"/>
                </a:solidFill>
                <a:latin typeface="Arial"/>
              </a:rPr>
              <a:t>50 - 65 %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556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Cut off date for audit: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8 local undertakings &gt; 65 %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556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cc00"/>
                </a:solidFill>
                <a:latin typeface="Arial"/>
              </a:rPr>
              <a:t>3 local undertakings 50 - 65 %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556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8444"/>
                </a:solidFill>
                <a:latin typeface="Arial"/>
              </a:rPr>
              <a:t>7 local undertakings &lt; 50 %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1400"/>
              </a:spcBef>
              <a:buClr>
                <a:srgbClr val="008444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High binding concerning the use of  proceeds of basic ren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1400"/>
              </a:spcBef>
              <a:buClr>
                <a:srgbClr val="008444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Limited freedom of a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1400"/>
              </a:spcBef>
              <a:buClr>
                <a:srgbClr val="008444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Creation of reserves not or only limited possibl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A9BD2-5168-4FC9-BFCE-F761F0526A2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4745E5-7B89-4CD4-B385-64570C0BECCD}" type="datetime3">
              <a:rPr lang="en-US"/>
              <a:t>July 29, 20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00000" y="765000"/>
            <a:ext cx="665496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udi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2600" y="1773000"/>
            <a:ext cx="8267400" cy="43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33"/>
                </a:solidFill>
                <a:latin typeface="Arial"/>
              </a:rPr>
              <a:t>Redemption ability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 (cash flow from operating activities / scheduled repayment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556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Endangerment of the stock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&lt; 100 %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556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cc00"/>
                </a:solidFill>
                <a:latin typeface="Arial"/>
              </a:rPr>
              <a:t>Impairment of the development </a:t>
            </a:r>
            <a:r>
              <a:rPr b="1" lang="en-GB" sz="16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cc00"/>
                </a:solidFill>
                <a:latin typeface="Arial"/>
              </a:rPr>
              <a:t>100-150 %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556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Cut off date for auditing: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6 local undertakings &lt; 100 %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556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cc00"/>
                </a:solidFill>
                <a:latin typeface="Arial"/>
              </a:rPr>
              <a:t>7 local undertakings 100 - 150 %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556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8444"/>
                </a:solidFill>
                <a:latin typeface="Arial"/>
              </a:rPr>
              <a:t>5 local undertakings &gt; 150 %</a:t>
            </a:r>
            <a:r>
              <a:rPr b="1" lang="en-GB" sz="16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2001"/>
              </a:spcBef>
              <a:buClr>
                <a:srgbClr val="008444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Repayment of bank loans only  possible by using own reserves or grants of municipalitie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2001"/>
              </a:spcBef>
              <a:buClr>
                <a:srgbClr val="008444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Local undertakings run the risk of financial incapacity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F1EC4-1671-4A63-A1D8-517C0F1A2A8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4FD9AB-B523-40DB-A025-2694F5E0B464}" type="datetime3">
              <a:rPr lang="en-US"/>
              <a:t>July 29, 2026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69760" y="907920"/>
            <a:ext cx="66546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udi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2600" y="1771560"/>
            <a:ext cx="82674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Vacancy of apartments according to living spac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556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Endangerment of the stock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&gt; 15 %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556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Impairment of the development </a:t>
            </a: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&gt; 10 %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556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Cut off date for audit: 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7 local undertakings &gt; 15 %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556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11 local undertakings &gt; 10 %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2001"/>
              </a:spcBef>
              <a:buClr>
                <a:srgbClr val="008444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Increase in  vacancy since  2002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2001"/>
              </a:spcBef>
              <a:buClr>
                <a:srgbClr val="008444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Increase in vacancy rates not to the same extent as the depopula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2001"/>
              </a:spcBef>
              <a:buClr>
                <a:srgbClr val="008444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Vacancy of apartments should be modified, especially by deconstru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556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A8892-E680-4579-B2B4-7C6DFDBCED6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29F781-B0EB-4672-860D-9C02CBC8A623}" type="datetime3">
              <a:rPr lang="en-US"/>
              <a:t>July 29, 202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0920" y="549360"/>
            <a:ext cx="66546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600" spc="-1" strike="noStrike">
                <a:solidFill>
                  <a:srgbClr val="000000"/>
                </a:solidFill>
                <a:latin typeface="Arial"/>
              </a:rPr>
              <a:t>Rating fact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808992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333333"/>
                </a:solidFill>
                <a:uFillTx/>
                <a:latin typeface="Arial"/>
              </a:rPr>
              <a:t>Rating factors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Equity ratio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Return on assets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  5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Debt service coverage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Redemption ability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  5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Vacancy rate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1600" spc="-1" strike="noStrike" u="sng">
                <a:solidFill>
                  <a:srgbClr val="333333"/>
                </a:solidFill>
                <a:uFillTx/>
                <a:latin typeface="Arial"/>
              </a:rPr>
              <a:t>15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maximum value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    =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 50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333333"/>
                </a:solidFill>
                <a:uFillTx/>
                <a:latin typeface="Arial"/>
              </a:rPr>
              <a:t>Multipliers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33"/>
                </a:solidFill>
                <a:latin typeface="Arial"/>
              </a:rPr>
              <a:t>Without complaint</a:t>
            </a:r>
            <a:r>
              <a:rPr b="1" lang="en-GB" sz="16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9900"/>
                </a:solidFill>
                <a:latin typeface="Arial"/>
              </a:rPr>
              <a:t>   0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cc00"/>
                </a:solidFill>
                <a:latin typeface="Arial"/>
              </a:rPr>
              <a:t>Impairment of the development </a:t>
            </a:r>
            <a:r>
              <a:rPr b="1" lang="en-GB" sz="16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cc00"/>
                </a:solidFill>
                <a:latin typeface="Arial"/>
              </a:rPr>
              <a:t>   1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Endangerment of the stock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   2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33"/>
                </a:solidFill>
                <a:latin typeface="Arial"/>
              </a:rPr>
              <a:t>Maximum value after multiplication =</a:t>
            </a:r>
            <a:r>
              <a:rPr b="1" lang="en-GB" sz="1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333333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1FAC7-3DC9-44CF-AA38-1E75FAEC80F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584E20-B9F6-446A-AB47-63DB7C2211EE}" type="datetime3">
              <a:rPr lang="en-US"/>
              <a:t>July 29, 2026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69760" y="907560"/>
            <a:ext cx="6654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Overall evalu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37760" y="2381040"/>
            <a:ext cx="2174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878040" y="1916280"/>
          <a:ext cx="8015040" cy="4781520"/>
        </p:xfrm>
        <a:graphic>
          <a:graphicData uri="http://schemas.openxmlformats.org/drawingml/2006/table">
            <a:tbl>
              <a:tblPr/>
              <a:tblGrid>
                <a:gridCol w="1761840"/>
                <a:gridCol w="1925640"/>
                <a:gridCol w="4327560"/>
              </a:tblGrid>
              <a:tr h="1041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GREEN  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2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-25 Points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GB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no urgent need for action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1503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Yellow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2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26-50 Points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GB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individually check at which points 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GB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action is necessary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1488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ED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2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22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51-100 Points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22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GB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immediate action necessary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748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Evaluation covering the years from </a:t>
                      </a:r>
                      <a:r>
                        <a:rPr b="0" lang="en-GB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2002 until 2005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7" name=""/>
          <p:cNvSpPr/>
          <p:nvPr/>
        </p:nvSpPr>
        <p:spPr>
          <a:xfrm>
            <a:off x="4643280" y="2276640"/>
            <a:ext cx="505080" cy="358560"/>
          </a:xfrm>
          <a:prstGeom prst="rightArrow">
            <a:avLst>
              <a:gd name="adj1" fmla="val 50000"/>
              <a:gd name="adj2" fmla="val 35216"/>
            </a:avLst>
          </a:prstGeom>
          <a:solidFill>
            <a:srgbClr val="0099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43280" y="3573360"/>
            <a:ext cx="505080" cy="358920"/>
          </a:xfrm>
          <a:prstGeom prst="rightArrow">
            <a:avLst>
              <a:gd name="adj1" fmla="val 50000"/>
              <a:gd name="adj2" fmla="val 35181"/>
            </a:avLst>
          </a:prstGeom>
          <a:solidFill>
            <a:srgbClr val="ffcc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43280" y="5013360"/>
            <a:ext cx="505080" cy="358920"/>
          </a:xfrm>
          <a:prstGeom prst="rightArrow">
            <a:avLst>
              <a:gd name="adj1" fmla="val 50000"/>
              <a:gd name="adj2" fmla="val 35181"/>
            </a:avLst>
          </a:prstGeom>
          <a:solidFill>
            <a:srgbClr val="cc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FF238-EE29-4F24-A5FC-6CE0B5EE762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7F8266-2C77-4A3A-A256-37E901B306D3}" type="datetime3">
              <a:rPr lang="en-US"/>
              <a:t>July 29, 20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69760" y="765000"/>
            <a:ext cx="66546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600" spc="-1" strike="noStrike">
                <a:solidFill>
                  <a:srgbClr val="000000"/>
                </a:solidFill>
                <a:latin typeface="Arial"/>
              </a:rPr>
              <a:t>Summary of audit resul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2600" y="1773000"/>
            <a:ext cx="82674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52080" indent="-352080">
              <a:spcBef>
                <a:spcPts val="225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5 local undertakings have no urgent need for action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52080" indent="-352080">
              <a:spcBef>
                <a:spcPts val="225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6 local undertakings  have individual need for actio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52080" indent="-352080">
              <a:spcBef>
                <a:spcPts val="225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Immediate action is necessary in 7 local undertaking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52080" indent="-352080">
              <a:spcBef>
                <a:spcPts val="225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Special package of measures require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52080" indent="-352080">
              <a:spcBef>
                <a:spcPts val="225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Local audit must be ensured and quality improvement must be strived by Mayo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52080" indent="-352080">
              <a:spcBef>
                <a:spcPts val="225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Establishment and documentation of a risk management system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52080" indent="-352080">
              <a:spcBef>
                <a:spcPts val="225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inuous critical examination of the economic situation by municipality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49861-CD21-4F72-B5A3-FDAE64DB790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B174A1-9B6F-46A4-B3A0-A6C65E843264}" type="datetime3">
              <a:rPr lang="en-US"/>
              <a:t>July 29, 20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26920" y="836640"/>
            <a:ext cx="784872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nitial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052280"/>
            <a:ext cx="8208720" cy="46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115000"/>
              </a:lnSpc>
              <a:spcBef>
                <a:spcPts val="1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01680" indent="-301680">
              <a:lnSpc>
                <a:spcPct val="115000"/>
              </a:lnSpc>
              <a:spcBef>
                <a:spcPts val="1400"/>
              </a:spcBef>
              <a:buClr>
                <a:srgbClr val="008444"/>
              </a:buClr>
              <a:buFont typeface="Arial Unicode MS"/>
              <a:buChar char="❙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ithin the scope of their organizational sovereignty the type of task accomplishment is at the discretion of municipalities and municipal associations (This organizational sovereignty is guaranteed right of municipalities and </a:t>
            </a:r>
            <a:r>
              <a:rPr b="0" lang="en-GB" sz="1600" spc="-1" strike="noStrike" u="sng">
                <a:solidFill>
                  <a:srgbClr val="003300"/>
                </a:solidFill>
                <a:uFillTx/>
                <a:latin typeface="Arial"/>
                <a:hlinkClick r:id="rId1"/>
              </a:rPr>
              <a:t>municipal associations</a:t>
            </a:r>
            <a:r>
              <a:rPr b="0" lang="en-GB" sz="1600" spc="-1" strike="noStrike" u="sng">
                <a:solidFill>
                  <a:srgbClr val="333333"/>
                </a:solidFill>
                <a:uFillTx/>
                <a:latin typeface="Arial"/>
              </a:rPr>
              <a:t>,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 by the Constitution according to Art.  28 para 2 </a:t>
            </a:r>
            <a:r>
              <a:rPr b="0" lang="en-GB" sz="1600" spc="-1" strike="noStrike" u="sng">
                <a:solidFill>
                  <a:srgbClr val="003300"/>
                </a:solidFill>
                <a:uFillTx/>
                <a:latin typeface="Arial"/>
                <a:hlinkClick r:id="rId2"/>
              </a:rPr>
              <a:t>GG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01680" indent="-301680">
              <a:lnSpc>
                <a:spcPct val="115000"/>
              </a:lnSpc>
              <a:spcBef>
                <a:spcPts val="1400"/>
              </a:spcBef>
              <a:buClr>
                <a:srgbClr val="008444"/>
              </a:buClr>
              <a:buFont typeface="Arial Unicode MS"/>
              <a:buChar char="❙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Task performance</a:t>
            </a: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by</a:t>
            </a: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administration, legally dependent enterprises under public law, operationally autonomous (local) undertakings devoid of legal personality (Eigenbetrieb), municipal enterprises under private law, inter-communal coopera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01680" indent="-301680">
              <a:lnSpc>
                <a:spcPct val="115000"/>
              </a:lnSpc>
              <a:spcBef>
                <a:spcPts val="1400"/>
              </a:spcBef>
              <a:buClr>
                <a:srgbClr val="008444"/>
              </a:buClr>
              <a:buFont typeface="Arial Unicode MS"/>
              <a:buChar char="❙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Property management and housing businesses primarily in local undertakings and municipal companies in private legal form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01680" indent="-301680">
              <a:lnSpc>
                <a:spcPct val="115000"/>
              </a:lnSpc>
              <a:spcBef>
                <a:spcPts val="1576"/>
              </a:spcBef>
              <a:buClr>
                <a:srgbClr val="008444"/>
              </a:buClr>
              <a:buFont typeface="Arial Unicode MS"/>
              <a:buChar char="❙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As a result: audit priorities focus on operationally autonomous (local) undertaking devoid of legal personality (Eigenbetrieb) and municipal enterprises in private legal form, especially private companies limited by shares (Ltd=GmbH)</a:t>
            </a: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1680" indent="-301680">
              <a:lnSpc>
                <a:spcPct val="115000"/>
              </a:lnSpc>
              <a:spcBef>
                <a:spcPts val="1400"/>
              </a:spcBef>
              <a:buClr>
                <a:srgbClr val="008444"/>
              </a:buClr>
              <a:buFont typeface="Arial Unicode MS"/>
              <a:buChar char="❙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Law amendment 2003: immediate audit rights in private companies with &gt; 75% local shareholding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07561-AC65-4646-A6A9-58EE791E402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9FAF89-1B09-42FE-9AFB-9EDF53FFC856}" type="datetime3">
              <a:rPr lang="en-US"/>
              <a:t>July 29, 20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99640" y="1484280"/>
            <a:ext cx="748980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onomic activity of the municipality by legal persons of private law: approaches of audit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26560" y="2420640"/>
            <a:ext cx="799308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47840" indent="-447840">
              <a:lnSpc>
                <a:spcPct val="110000"/>
              </a:lnSpc>
              <a:spcBef>
                <a:spcPts val="225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333333"/>
                </a:solidFill>
                <a:latin typeface="Arial"/>
              </a:rPr>
              <a:t>Annual audit by certified public accountant             evaluated by court of audi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225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Rotational audit of municipal activities of the municipality in private companies in the legal form of private law by state audit offices ( assigned by the court of audit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33"/>
                </a:solidFill>
                <a:latin typeface="Arial"/>
              </a:rPr>
              <a:t>New after </a:t>
            </a: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law amendment 2003</a:t>
            </a:r>
            <a:r>
              <a:rPr b="0" lang="de-DE" sz="1800" spc="-1" strike="noStrike">
                <a:solidFill>
                  <a:srgbClr val="333333"/>
                </a:solidFill>
                <a:latin typeface="Arial"/>
              </a:rPr>
              <a:t> : </a:t>
            </a: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immediate audit rights in private companies with&gt; 75% local shareholding          </a:t>
            </a:r>
            <a:r>
              <a:rPr b="0" lang="en" sz="1800" spc="-1" strike="noStrike">
                <a:solidFill>
                  <a:srgbClr val="333333"/>
                </a:solidFill>
                <a:latin typeface="Arial"/>
              </a:rPr>
              <a:t>established a qualified audit team (two consultants, four examiners</a:t>
            </a:r>
            <a:r>
              <a:rPr b="0" lang="en" sz="16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580000" y="4869000"/>
            <a:ext cx="289080" cy="144360"/>
          </a:xfrm>
          <a:prstGeom prst="rightArrow">
            <a:avLst>
              <a:gd name="adj1" fmla="val 50000"/>
              <a:gd name="adj2" fmla="val 50062"/>
            </a:avLst>
          </a:prstGeom>
          <a:solidFill>
            <a:srgbClr val="008444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96000" y="2492280"/>
            <a:ext cx="288720" cy="144720"/>
          </a:xfrm>
          <a:prstGeom prst="rightArrow">
            <a:avLst>
              <a:gd name="adj1" fmla="val 50000"/>
              <a:gd name="adj2" fmla="val 49876"/>
            </a:avLst>
          </a:prstGeom>
          <a:solidFill>
            <a:srgbClr val="008444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E9049-4C27-4641-8824-CD09ACA754B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AD7712-E8F8-4A2B-994E-28620D1DC303}" type="datetime3">
              <a:rPr lang="en-US"/>
              <a:t>July 29, 2026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00000" y="836280"/>
            <a:ext cx="66549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600" spc="-1" strike="noStrike">
                <a:solidFill>
                  <a:srgbClr val="000000"/>
                </a:solidFill>
                <a:latin typeface="Arial"/>
              </a:rPr>
              <a:t>Object of aud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2600" y="1773000"/>
            <a:ext cx="8267400" cy="38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225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1. </a:t>
            </a:r>
            <a:r>
              <a:rPr b="1" lang="en-GB" sz="1800" spc="-1" strike="noStrike">
                <a:solidFill>
                  <a:srgbClr val="333333"/>
                </a:solidFill>
                <a:latin typeface="Arial"/>
              </a:rPr>
              <a:t>holistic approach </a:t>
            </a: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of audit of the municipal</a:t>
            </a:r>
            <a:r>
              <a:rPr b="1" lang="en-GB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ctivities in private companies, under evaluation of the budgetary situation of the municipality (stable, sufficiently stable, critical or unstable) and including the financial relationships between local authorities and compan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556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cc0000"/>
                </a:solidFill>
                <a:latin typeface="Wingdings 3"/>
                <a:ea typeface="Wingdings 3"/>
              </a:rPr>
              <a:t>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225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rresponding to its capability the </a:t>
            </a:r>
            <a:r>
              <a:rPr b="1" lang="en-GB" sz="1800" spc="-1" strike="noStrike">
                <a:solidFill>
                  <a:srgbClr val="333333"/>
                </a:solidFill>
                <a:latin typeface="Arial"/>
              </a:rPr>
              <a:t>liability</a:t>
            </a: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 of the municipality must be limited to a reasonable amount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225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nature and extent of the company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 must be adequate to the capability of the municipality and to the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anticipated need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522EE-3438-4DB6-BF51-54EC8E26843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5A7AC3-8416-495A-A3F9-F2BDD85F5496}" type="datetime3">
              <a:rPr lang="en-US"/>
              <a:t>July 29, 2026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69760" y="836280"/>
            <a:ext cx="6654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600" spc="-1" strike="noStrike">
                <a:solidFill>
                  <a:srgbClr val="000000"/>
                </a:solidFill>
                <a:latin typeface="Arial"/>
              </a:rPr>
              <a:t>Object of aud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2600" y="1773000"/>
            <a:ext cx="82674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48480" indent="-348480">
              <a:spcBef>
                <a:spcPts val="225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2. </a:t>
            </a:r>
            <a:r>
              <a:rPr b="1" lang="en-GB" sz="1800" spc="-1" strike="noStrike">
                <a:solidFill>
                  <a:srgbClr val="333333"/>
                </a:solidFill>
                <a:latin typeface="Arial"/>
              </a:rPr>
              <a:t>selected main topics for auditing</a:t>
            </a: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 of the company, also contract of the managing director, Sponsorship, control by supervisory boar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8480" indent="-348480">
              <a:spcBef>
                <a:spcPts val="225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In this case: </a:t>
            </a:r>
            <a:r>
              <a:rPr b="1" lang="en-GB" sz="1800" spc="-1" strike="noStrike">
                <a:solidFill>
                  <a:srgbClr val="333333"/>
                </a:solidFill>
                <a:latin typeface="Arial"/>
              </a:rPr>
              <a:t>assessment of the economic situation of companies in the housing economy - comparable to </a:t>
            </a: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operationally autonomous (local) undertaking devoid of legal personality </a:t>
            </a:r>
            <a:r>
              <a:rPr b="1" lang="en-GB" sz="1800" spc="-1" strike="noStrike">
                <a:solidFill>
                  <a:srgbClr val="333333"/>
                </a:solidFill>
                <a:latin typeface="Arial"/>
              </a:rPr>
              <a:t>: </a:t>
            </a: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Income and capital position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883440" indent="-359280">
              <a:spcBef>
                <a:spcPts val="225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Profitability and asset situation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883440" indent="-359280">
              <a:spcBef>
                <a:spcPts val="225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Vacancy of apartm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883440" indent="-359280">
              <a:spcBef>
                <a:spcPts val="225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Development of population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883440" indent="-359280">
              <a:spcBef>
                <a:spcPts val="225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Overall evaluation based on key figur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5186F-DCC5-4A66-8401-362DB0B32BF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DE7599-5A74-4443-99E2-768F6B48B5DD}" type="datetime3">
              <a:rPr lang="en-US"/>
              <a:t>July 29, 2026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70120" y="836280"/>
            <a:ext cx="74469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udit results (Municipality - Compa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2600" y="1771560"/>
            <a:ext cx="82674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lnSpc>
                <a:spcPct val="90000"/>
              </a:lnSpc>
              <a:spcBef>
                <a:spcPts val="2001"/>
              </a:spcBef>
              <a:buClr>
                <a:srgbClr val="008444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Critical budgetary situation of the municipality, leads to relocation of possible loss-making institutions (multi-purpose hall, public swimming pool, museums) in municipally owned companie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2001"/>
              </a:spcBef>
              <a:buClr>
                <a:srgbClr val="008444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High risk potential in the municipal company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2001"/>
              </a:spcBef>
              <a:buClr>
                <a:srgbClr val="008444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Depletion of the reserves of the municipality                 </a:t>
            </a:r>
            <a:r>
              <a:rPr b="0" lang="de-DE" sz="1600" spc="-1" strike="noStrike">
                <a:solidFill>
                  <a:srgbClr val="333333"/>
                </a:solidFill>
                <a:latin typeface="Arial"/>
              </a:rPr>
              <a:t>examples: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2001"/>
              </a:spcBef>
              <a:buClr>
                <a:srgbClr val="00844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33"/>
                </a:solidFill>
                <a:latin typeface="Arial"/>
              </a:rPr>
              <a:t>Deficit guarantees for the municipal companies </a:t>
            </a:r>
            <a:r>
              <a:rPr b="0" lang="en" sz="1600" spc="-1" strike="noStrike">
                <a:solidFill>
                  <a:srgbClr val="333333"/>
                </a:solidFill>
                <a:latin typeface="Arial"/>
              </a:rPr>
              <a:t>in the amount of </a:t>
            </a:r>
            <a:r>
              <a:rPr b="0" lang="de-DE" sz="1600" spc="-1" strike="noStrike">
                <a:solidFill>
                  <a:srgbClr val="333333"/>
                </a:solidFill>
                <a:latin typeface="Arial"/>
              </a:rPr>
              <a:t>€</a:t>
            </a:r>
            <a:r>
              <a:rPr b="0" lang="en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333333"/>
                </a:solidFill>
                <a:latin typeface="Arial"/>
              </a:rPr>
              <a:t>8,5 mill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2001"/>
              </a:spcBef>
              <a:buClr>
                <a:srgbClr val="00844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Grants to cover investments and operating costs </a:t>
            </a:r>
            <a:r>
              <a:rPr b="0" lang="en" sz="1600" spc="-1" strike="noStrike">
                <a:solidFill>
                  <a:srgbClr val="333333"/>
                </a:solidFill>
                <a:latin typeface="Arial"/>
              </a:rPr>
              <a:t>e.g. for a</a:t>
            </a:r>
            <a:r>
              <a:rPr b="0" lang="de-DE" sz="1600" spc="-1" strike="noStrike">
                <a:solidFill>
                  <a:srgbClr val="333333"/>
                </a:solidFill>
                <a:latin typeface="Arial"/>
              </a:rPr>
              <a:t>swimming pool amounting to   250 000 € p. a. until the year 2025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2001"/>
              </a:spcBef>
              <a:buClr>
                <a:srgbClr val="00844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600" spc="-1" strike="noStrike">
                <a:solidFill>
                  <a:srgbClr val="333333"/>
                </a:solidFill>
                <a:latin typeface="Arial"/>
              </a:rPr>
              <a:t>Grants for repayment of interest and liabilities of the company in the amount of</a:t>
            </a:r>
            <a:r>
              <a:rPr b="0" lang="de-DE" sz="1600" spc="-1" strike="noStrike">
                <a:solidFill>
                  <a:srgbClr val="333333"/>
                </a:solidFill>
                <a:latin typeface="Arial"/>
              </a:rPr>
              <a:t> € 360 000 p. a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2001"/>
              </a:spcBef>
              <a:buClr>
                <a:srgbClr val="00844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Capital contributions for a redemption of  a buy back obligation  in the amount of € 5.2 million, l</a:t>
            </a:r>
            <a:r>
              <a:rPr b="0" lang="en" sz="1600" spc="-1" strike="noStrike">
                <a:solidFill>
                  <a:srgbClr val="333333"/>
                </a:solidFill>
                <a:latin typeface="Arial"/>
              </a:rPr>
              <a:t>oan taken to finance replacement loan of € 1.7 mill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508720" y="314172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cc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EED58-2137-4F79-BD49-B80132F0C6C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686C62-3D08-4536-857E-DE67603CA3C5}" type="datetime3">
              <a:rPr lang="en-US"/>
              <a:t>July 29, 2026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69760" y="836280"/>
            <a:ext cx="6654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udit results (compa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2600" y="1773360"/>
            <a:ext cx="8267400" cy="45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1400"/>
              </a:spcBef>
              <a:buClr>
                <a:srgbClr val="008444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33"/>
                </a:solidFill>
                <a:latin typeface="Arial"/>
              </a:rPr>
              <a:t>Permanently critical company situa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1400"/>
              </a:spcBef>
              <a:buClr>
                <a:srgbClr val="008444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Latent threat of insolvency for nearly two years, conclusion: identification of loss potential in accordance with reasons of insolvency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1400"/>
              </a:spcBef>
              <a:buClr>
                <a:srgbClr val="008444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Faulty business planning, conclusion: requesting a proper business planning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1400"/>
              </a:spcBef>
              <a:buClr>
                <a:srgbClr val="008444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High vacancy rates, high interest and depreciation, liquidity problems, poor rating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1400"/>
              </a:spcBef>
              <a:buClr>
                <a:srgbClr val="008444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In main business redevelopment over need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1400"/>
              </a:spcBef>
              <a:buClr>
                <a:srgbClr val="008444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Loans to other investment companies (not corporate purpose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1400"/>
              </a:spcBef>
              <a:buClr>
                <a:srgbClr val="008444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600" spc="-1" strike="noStrike">
                <a:solidFill>
                  <a:srgbClr val="333333"/>
                </a:solidFill>
                <a:latin typeface="Arial"/>
              </a:rPr>
              <a:t>Inappropriate granting of bonuses, orientation of bonuses on sales instead of the long-term success,  faulty incentives in the development of busines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1CF0B-07E3-4460-A7C5-E1719EA2486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826E1E-C2B6-476F-8B45-95F2C9354366}" type="datetime3">
              <a:rPr lang="en-US"/>
              <a:t>July 29, 2026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69760" y="836280"/>
            <a:ext cx="6654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dit results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each of duty of the managing director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71560" y="1779120"/>
            <a:ext cx="823752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lnSpc>
                <a:spcPct val="90000"/>
              </a:lnSpc>
              <a:spcBef>
                <a:spcPts val="2251"/>
              </a:spcBef>
              <a:buClr>
                <a:srgbClr val="008444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Unrealistic planning revenues, deviations between the economic plan and the net income of the yea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2251"/>
              </a:spcBef>
              <a:buClr>
                <a:srgbClr val="008444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In case of imminent insolvency debt-distressed balance sheet too late created; shift of financial burdens between subsidiar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2251"/>
              </a:spcBef>
              <a:buClr>
                <a:srgbClr val="008444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Risky security transactions, breach of loyalty and due care, especially the duty to inform the supervisory boar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2251"/>
              </a:spcBef>
              <a:buClr>
                <a:srgbClr val="008444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33"/>
                </a:solidFill>
                <a:uFillTx/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333333"/>
                </a:solidFill>
                <a:uFillTx/>
                <a:latin typeface="Arial"/>
              </a:rPr>
              <a:t>Conclusion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2251"/>
              </a:spcBef>
              <a:buClr>
                <a:srgbClr val="00844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Checking of  the misconduct in the corporate management of the compan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2251"/>
              </a:spcBef>
              <a:buClr>
                <a:srgbClr val="00844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Checking of claims for damages against the managing director because of  breach of statutory and contractual dut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2251"/>
              </a:spcBef>
              <a:buClr>
                <a:srgbClr val="00844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checking the dismissal of the directo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42036-6B88-424F-9BE5-D283B1629FB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1E21BA-DA05-45AA-9F6D-F42F74EAE64B}" type="datetime3">
              <a:rPr lang="en-US"/>
              <a:t>July 29, 2026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udit results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eaches of  duties of monitoring by supervisory board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8267760" cy="34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2251"/>
              </a:spcBef>
              <a:buClr>
                <a:srgbClr val="008444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Uncritical acknowledgment of the unrealistic and contradictory accounts given by managing director in the economic pla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2251"/>
              </a:spcBef>
              <a:buClr>
                <a:srgbClr val="008444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Acceptance of overly optimistic profitability prospec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2251"/>
              </a:spcBef>
              <a:buClr>
                <a:srgbClr val="008444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Failings in the supervision of the managing director concerning transactions which require approval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2251"/>
              </a:spcBef>
              <a:buClr>
                <a:srgbClr val="008444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No report on the annual audi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63EA3-F527-4515-B8FC-F752E6F4D63A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B93F5A-96DE-48E9-8692-330BF6284575}" type="datetime3">
              <a:rPr lang="en-US"/>
              <a:t>July 29, 20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38120" y="1628640"/>
            <a:ext cx="8267760" cy="384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556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" sz="4000" spc="-1" strike="noStrike">
                <a:solidFill>
                  <a:srgbClr val="333333"/>
                </a:solidFill>
                <a:latin typeface="Arial"/>
              </a:rPr>
              <a:t>Thank you for your attention</a:t>
            </a:r>
            <a:r>
              <a:rPr b="1" lang="de-DE" sz="4000" spc="-1" strike="noStrike">
                <a:solidFill>
                  <a:srgbClr val="333333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556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D97C9-0CAE-4CE6-B6C2-EE2991BE2090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906F6F-487E-4024-A8FD-64903A8756B9}" type="datetime3">
              <a:rPr lang="en-US"/>
              <a:t>July 29, 20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41400" y="222120"/>
            <a:ext cx="6654960" cy="11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igures and types of municipal housing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2600" y="1773000"/>
            <a:ext cx="8267400" cy="43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Number and total assets of the operationally autonomous (local) undertakings devoid of legal personality </a:t>
            </a:r>
            <a:r>
              <a:rPr b="0" lang="en-GB" sz="1600" spc="-1" strike="noStrike">
                <a:solidFill>
                  <a:srgbClr val="333333"/>
                </a:solidFill>
                <a:latin typeface="Wingdings 3"/>
                <a:ea typeface="Wingdings 3"/>
              </a:rPr>
              <a:t>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 18 companies € 108 mio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Number and total assets of private companies limited by shares (Ltd=GmbH) </a:t>
            </a:r>
            <a:r>
              <a:rPr b="0" lang="en-GB" sz="1600" spc="-1" strike="noStrike">
                <a:solidFill>
                  <a:srgbClr val="333333"/>
                </a:solidFill>
                <a:latin typeface="Wingdings 3"/>
                <a:ea typeface="Wingdings 3"/>
              </a:rPr>
              <a:t>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 136 enterprises € 7,8 bn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Cross-sectional study: 56 % of operationally autonomous (local) undertaking devoid of legal personality in housing sector generate losse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33"/>
                </a:solidFill>
                <a:latin typeface="Arial"/>
              </a:rPr>
              <a:t>1.Detailed economic examination: an overview of audit procedures and outcome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33"/>
                </a:solidFill>
                <a:latin typeface="Arial"/>
              </a:rPr>
              <a:t>2. Exemplary findings: operating and company auditing of a city with a local property management Ltd. and a real estate and development Ltd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83198-8A55-4DF0-8C37-1564D7BCF60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5123F6-99E5-4BF2-8D76-CE8612032504}" type="datetime3">
              <a:rPr lang="en-US"/>
              <a:t>July 29, 20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861840" y="942840"/>
            <a:ext cx="658512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igression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perationally autonomous (local) undertaking devoid of legal personality (Eigenbetrieb)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838080" y="1773000"/>
            <a:ext cx="8305920" cy="43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5000"/>
              </a:lnSpc>
              <a:spcBef>
                <a:spcPts val="1599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Legally dependent, external liability of the municipality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599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Organizational independen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599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Independent, accounting, own economic pl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Own annual account, annual audit by certified public accountan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Property of the local undertaking is special fund of the municipality separated managemen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Municipality must provide the undertaking with an adequate equity capita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Budget of municipality: only profit transfer or loss compensation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Mutual services must be paid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*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in the following “Eigenbetriebe” referred to as local undertaking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34201-0FE9-4D51-8D8E-241501E2ED47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2C5BDC-AEE2-44D3-9755-227487BAB107}" type="datetime3">
              <a:rPr lang="en-US"/>
              <a:t>July 29, 20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1052280"/>
            <a:ext cx="7632720" cy="64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udit of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ocal undertakings of housing sector</a:t>
            </a:r>
            <a:r>
              <a:rPr b="0" lang="en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2600" y="1773360"/>
            <a:ext cx="8267400" cy="45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18 local undertakings chose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Housing management:</a:t>
            </a: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Own stock management, management of residential property of others, survey period from 2002 to 2005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33"/>
                </a:solidFill>
                <a:latin typeface="Arial"/>
              </a:rPr>
              <a:t>Problem area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-</a:t>
            </a: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igh vacancy</a:t>
            </a: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-</a:t>
            </a: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Surplus of apartments,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-</a:t>
            </a: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Population decrease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-</a:t>
            </a: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Tenant fluctuation because of labour market unattractivenes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33"/>
                </a:solidFill>
                <a:latin typeface="Arial"/>
              </a:rPr>
              <a:t>Audit issues</a:t>
            </a:r>
            <a:r>
              <a:rPr b="1" lang="en-GB" sz="1800" spc="-1" strike="noStrike">
                <a:solidFill>
                  <a:srgbClr val="333333"/>
                </a:solidFill>
                <a:latin typeface="Arial"/>
              </a:rPr>
              <a:t>: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choice of company type, organization of task performance</a:t>
            </a: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analysis of the influences caused by the change in economic conditions</a:t>
            </a: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economic situation of the local undertaking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551A9-4E1E-4EA1-9264-DF82A00839F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9C7EB3-3E54-46D0-AE1A-E4E0211766B8}" type="datetime3">
              <a:rPr lang="en-US"/>
              <a:t>July 29, 20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69760" y="907560"/>
            <a:ext cx="6654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udit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41320" y="1773360"/>
            <a:ext cx="826776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1800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Analysis of the current economic situation on the basis of key figure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1800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Development of key figure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1800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Overview of key figures in ranking tabl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1800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Overall comparison of the economic situation of  local undertaking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Analysis of previous managerial activitie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Development of hints to solutions for the in the overall comparison economically problematic local undertaking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Specific instructions concerning the current need for improvement in individual local undertaking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F8786-652E-4491-94C2-5286BDEF8F4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5D0CE3-015C-4615-B75B-AE468EC0CC96}" type="datetime3">
              <a:rPr lang="en-US"/>
              <a:t>July 29, 20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69760" y="907560"/>
            <a:ext cx="6654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udit topics in det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41320" y="1773360"/>
            <a:ext cx="826776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1125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Arial"/>
              </a:rPr>
              <a:t>Kind of organization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1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Calculation of profitability in comparison with other forms of organiza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1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Scope of the special fund (number of residential and commercial units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1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State of redevelopment of the special fund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1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Planned or already decided changes of the organizational form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1125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Arial"/>
              </a:rPr>
              <a:t>Task accomplishment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1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Independent </a:t>
            </a:r>
            <a:r>
              <a:rPr b="1" lang="en-GB" sz="1600" spc="-1" strike="noStrike">
                <a:solidFill>
                  <a:srgbClr val="333333"/>
                </a:solidFill>
                <a:latin typeface="Arial"/>
              </a:rPr>
              <a:t>task accomplishment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 by local undertaking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1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Management of non-company residential and commercial unit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1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Transmission of task accomplishment to third partie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1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Comparison of administrative costs depending on the organizational form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1579E-2BFF-4C0E-BCE2-6FE368FC555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3429F1-3D70-4559-8DF1-4CAAC8E97DC3}" type="datetime3">
              <a:rPr lang="en-US"/>
              <a:t>July 29, 20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69760" y="907560"/>
            <a:ext cx="6654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udit topics in det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41320" y="1773360"/>
            <a:ext cx="826776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1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33"/>
                </a:solidFill>
                <a:latin typeface="Arial"/>
              </a:rPr>
              <a:t>Change in economic condition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Population development</a:t>
            </a: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housing stock</a:t>
            </a: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living space per inhabitant</a:t>
            </a: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size of households in the particular municipality</a:t>
            </a: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comparison with the Saxon average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Effects on the vacancy rates</a:t>
            </a: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average rents</a:t>
            </a: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;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as far as non-company buildings are managed: comparison to the vacancy rates and average rents of thos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Marketing of the managed portfoli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Size and measures of risk management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Scope and use of cost calculations of local undertaking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F144B-FAFB-4C99-966A-B9496C07A49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EE92D9-4B76-44AE-BE20-40B3041D571E}" type="datetime3">
              <a:rPr lang="en-US"/>
              <a:t>July 29, 20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69760" y="907560"/>
            <a:ext cx="6654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basis for key figu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41320" y="1773360"/>
            <a:ext cx="826776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45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based on tool ”crisis management of housing companies and prevention of insolvency </a:t>
            </a: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“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45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Arial"/>
              </a:rPr>
              <a:t>economic situation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400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Grants from the municipality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400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Capital ratio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400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Return on total asset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400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Debt service coverage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400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Redemption ability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400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Interest expense, interest expense per m</a:t>
            </a:r>
            <a:r>
              <a:rPr b="0" lang="en-GB" sz="1600" spc="-1" strike="noStrike" baseline="30000">
                <a:solidFill>
                  <a:srgbClr val="333333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400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Level of debt, indebtedness per m</a:t>
            </a:r>
            <a:r>
              <a:rPr b="0" lang="en-GB" sz="1600" spc="-1" strike="noStrike" baseline="30000">
                <a:solidFill>
                  <a:srgbClr val="333333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400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Asset maintenance</a:t>
            </a: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by generated deprecia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400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Extent and causes of non-scheduled deprecia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400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Development of the total cos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400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Development of the headcoun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CB444-09AC-4989-A724-CF32B669D86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985158-B2F7-4644-A354-6EC9761F632D}" type="datetime3">
              <a:rPr lang="en-US"/>
              <a:t>July 29, 20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0T07:10:19Z</dcterms:created>
  <dc:creator/>
  <dc:description/>
  <cp:keywords/>
  <dc:language>en-US</dc:language>
  <cp:lastModifiedBy>PB</cp:lastModifiedBy>
  <dcterms:modified xsi:type="dcterms:W3CDTF">2011-09-15T10:56:02Z</dcterms:modified>
  <cp:revision>109</cp:revision>
  <dc:subject/>
  <dc:title>PowerPoint-Präsentation SRH</dc:title>
</cp:coreProperties>
</file>