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7.png" ContentType="image/png"/>
  <Override PartName="/ppt/media/image30.wmf" ContentType="image/x-wmf"/>
  <Override PartName="/ppt/media/image24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6.png" ContentType="image/png"/>
  <Override PartName="/ppt/media/image31.wmf" ContentType="image/x-wmf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2.jpeg" ContentType="image/jpeg"/>
  <Override PartName="/ppt/media/image9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87B2-43D3-46E9-B0D6-19A12ED0B5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176C-C0F2-4616-9E56-82CEF4A6328D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76AD-6C03-49A7-85FE-5B4AC581F5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готовлен Климановым Владимиром Викторовичем, специалистом в области бюджетного федерализма, регионального развития и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ом Автономной некоммерческой организации «Институт реформирования общественных финанс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 научным сотрудником Института системного анализа Российской академии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дующим кафедрой Факультета государственного управления Российской академии народного хозяйства и государственной службы при Президент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тором эконом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3EB5-E23F-49E4-8B45-B60A6F281B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0DA1-D4CD-4A5D-A806-B2581E4352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2CC9-514F-4970-B26C-AC8B1B0190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F804-8932-4D48-9AB1-E57FE97ADF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769-16C5-4AB1-BB4D-D100767C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42B-28CF-4182-AB91-665F4A4F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C7A-332C-43DB-88DD-A6CCC1BF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E63-C7A8-4650-8DB9-ECB9501B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8329-F409-412D-9C60-316A50EF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5273-32C2-49ED-B4FE-FD5B5B6D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632B-C504-42BC-BA87-06C2A86E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6CF2-2F8D-4FCF-A267-A3D118F2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9E24-8F46-4247-BF66-6A5F36BE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9A2E-B9A3-4076-B8F8-D073C980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33BC-C572-486F-9856-9C9EEDE3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4C7-8E13-41AA-A02A-53FB1664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E640-7450-4C65-9E7E-89DBC168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786A-2115-42C8-84A7-CFB74B33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AD48-09A5-49B7-8A7E-912D95E8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AD9A-8FD8-474E-8DF7-19D46AB3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D76B-C3E1-42BA-99CC-C36F16C3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B24-18F8-42F8-81CA-B7556D20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532-EC3E-484D-9E61-1BE561C0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2BE-0C19-4D66-9B78-96724DA3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F3E-74CB-442F-AA24-032735E4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B25-19C8-4D87-89D5-9A4FD35D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C3F-A20C-4670-ADC2-33B248A0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678-A04F-414A-9CD0-EB28694B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836C-BE76-48CC-9A4F-08092E400C7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2472-266D-4F30-B642-D1CF4FC480E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408F-D01C-4778-8305-6AAEE87A9BCD}" type="datetime">
              <a:rPr b="0" lang="ru-RU" sz="1200" spc="-1" strike="noStrike">
                <a:solidFill>
                  <a:srgbClr val="898989"/>
                </a:solidFill>
                <a:latin typeface="Arial"/>
                <a:ea typeface="宋体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3921-8228-475F-9174-623DE10F7B9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"/>
          <p:cNvGrpSpPr/>
          <p:nvPr/>
        </p:nvGrpSpPr>
        <p:grpSpPr>
          <a:xfrm>
            <a:off x="0" y="357120"/>
            <a:ext cx="9144000" cy="6043680"/>
            <a:chOff x="0" y="357120"/>
            <a:chExt cx="9144000" cy="6043680"/>
          </a:xfrm>
        </p:grpSpPr>
        <p:sp>
          <p:nvSpPr>
            <p:cNvPr id="90" name="Rectangle 4"/>
            <p:cNvSpPr/>
            <p:nvPr/>
          </p:nvSpPr>
          <p:spPr>
            <a:xfrm>
              <a:off x="0" y="2071800"/>
              <a:ext cx="871380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br>
                <a:rPr sz="2900"/>
              </a:br>
              <a:br>
                <a:rPr sz="2900"/>
              </a:b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0" y="337032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71280" y="357120"/>
              <a:ext cx="9001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376092"/>
                  </a:solidFill>
                  <a:latin typeface="Arial"/>
                </a:rPr>
                <a:t>Международный семинар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0" y="2246400"/>
              <a:ext cx="91440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76092"/>
                  </a:solidFill>
                  <a:latin typeface="Arial"/>
                </a:rPr>
                <a:t>Опыт проведения аудита муниципальных органов власти страны, являющихся членами ЕВРОРА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041640" y="6000840"/>
              <a:ext cx="184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Прямоугольник 11"/>
          <p:cNvSpPr/>
          <p:nvPr/>
        </p:nvSpPr>
        <p:spPr>
          <a:xfrm>
            <a:off x="2988360" y="621504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Ростов-на-Дону, 7 октября 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Визуализация сопоставления позиций стран и целей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0397-7F3F-444E-9C96-F75CF98EB87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5" descr="cone1.jpeg"/>
          <p:cNvPicPr/>
          <p:nvPr/>
        </p:nvPicPr>
        <p:blipFill>
          <a:blip r:embed="rId2"/>
          <a:stretch/>
        </p:blipFill>
        <p:spPr>
          <a:xfrm>
            <a:off x="468360" y="1197000"/>
            <a:ext cx="820728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0EFA-5966-40E2-B333-89CF6AC457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0" y="28584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Анализ результатов Программы взаимной оценки «Группы двадца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(пример Китая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MAP_CHINA.jpg"/>
          <p:cNvPicPr/>
          <p:nvPr/>
        </p:nvPicPr>
        <p:blipFill>
          <a:blip r:embed="rId1"/>
          <a:stretch/>
        </p:blipFill>
        <p:spPr>
          <a:xfrm>
            <a:off x="857160" y="1643040"/>
            <a:ext cx="7437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A38A-7A9A-452B-85D1-8CBCD80F648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0" y="28584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Анализ результатов Программы взаимной оценки «Группы двадца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(пример США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MAP_US.jpg"/>
          <p:cNvPicPr/>
          <p:nvPr/>
        </p:nvPicPr>
        <p:blipFill>
          <a:blip r:embed="rId1"/>
          <a:stretch/>
        </p:blipFill>
        <p:spPr>
          <a:xfrm>
            <a:off x="714240" y="1643040"/>
            <a:ext cx="76932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2F62-EF08-442A-8F51-58E9CE12685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0" y="28584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Анализ результатов Программы взаимной оценки «Группы двадца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(пример России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4" descr="MAP_RUS.jpg"/>
          <p:cNvPicPr/>
          <p:nvPr/>
        </p:nvPicPr>
        <p:blipFill>
          <a:blip r:embed="rId1"/>
          <a:stretch/>
        </p:blipFill>
        <p:spPr>
          <a:xfrm>
            <a:off x="714240" y="1714680"/>
            <a:ext cx="78901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EAB8-7C40-4C4A-9B72-DCECD2EE3D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Arial"/>
              </a:rPr>
              <a:t>Почему Еврозон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0920" y="1773360"/>
          <a:ext cx="8642160" cy="3535200"/>
        </p:xfrm>
        <a:graphic>
          <a:graphicData uri="http://schemas.openxmlformats.org/drawingml/2006/table">
            <a:tbl>
              <a:tblPr/>
              <a:tblGrid>
                <a:gridCol w="2665440"/>
                <a:gridCol w="1584360"/>
                <a:gridCol w="1511280"/>
                <a:gridCol w="1584360"/>
                <a:gridCol w="1296720"/>
              </a:tblGrid>
              <a:tr h="70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,в % от ВВ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сточник МВФ,ОЭС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з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овый дол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0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9" descr=""/>
          <p:cNvPicPr/>
          <p:nvPr/>
        </p:nvPicPr>
        <p:blipFill>
          <a:blip r:embed="rId1"/>
          <a:stretch/>
        </p:blipFill>
        <p:spPr>
          <a:xfrm>
            <a:off x="-6480" y="841320"/>
            <a:ext cx="8869320" cy="581508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D3FF-FC72-4696-A9A8-0336EEEF046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Валовое национальное счастье (ВН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Структура Индекса измерения качества жизни ОЭС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E491-8B26-4CBF-88EA-FFC85DFE2D9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"/>
          <p:cNvPicPr/>
          <p:nvPr/>
        </p:nvPicPr>
        <p:blipFill>
          <a:blip r:embed="rId1"/>
          <a:stretch/>
        </p:blipFill>
        <p:spPr>
          <a:xfrm>
            <a:off x="324000" y="1595520"/>
            <a:ext cx="86407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Структура Индекса глобальной  конкурентоспособности В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96C8-2DD4-4361-83B9-1D39BAC2629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142920" y="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Индекс измерения качества жизни ОЭС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0D4B-E100-4B3E-8DE9-22369F62CC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1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Индекс глобальной конкурентоспособ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E283-8865-4E4A-B257-DB0DC83CD60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2" descr=""/>
          <p:cNvPicPr/>
          <p:nvPr/>
        </p:nvPicPr>
        <p:blipFill>
          <a:blip r:embed="rId1"/>
          <a:stretch/>
        </p:blipFill>
        <p:spPr>
          <a:xfrm>
            <a:off x="-9360" y="981000"/>
            <a:ext cx="914400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A791-9EC6-4EE9-B575-815ED493E6D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5" descr="снимок6.png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Взаимосвязи глобальных рис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0" y="181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Сравнение значений ИГК и ИК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(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пример России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9CF8-8F70-4114-9B6C-3D8D08CB56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179280" y="1504800"/>
            <a:ext cx="871380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3"/>
          <p:cNvSpPr/>
          <p:nvPr/>
        </p:nvSpPr>
        <p:spPr>
          <a:xfrm>
            <a:off x="0" y="181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Сравнение значений ИГК и ИК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(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пример Германии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B128-BA3D-4599-809B-EF71020D55D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2" descr=""/>
          <p:cNvPicPr/>
          <p:nvPr/>
        </p:nvPicPr>
        <p:blipFill>
          <a:blip r:embed="rId1"/>
          <a:stretch/>
        </p:blipFill>
        <p:spPr>
          <a:xfrm>
            <a:off x="298440" y="1477800"/>
            <a:ext cx="8569440" cy="51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0" y="181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Сравнение значений ИГК и ИК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(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пример Исландии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547C-6815-41B1-A980-09F13B876DE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431640" y="1506600"/>
            <a:ext cx="82807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181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Сравнение значений ИГК и ИК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(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пример Испании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83BD-3E0E-46E1-9810-9D95D323FB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390600" y="1492200"/>
            <a:ext cx="836280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Дифференциация регионов по душевым доходам </a:t>
            </a:r>
            <a:br>
              <a:rPr sz="4000"/>
            </a:b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(к среднему по стране уровню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D46B-CC9E-4021-BBF9-FBCD9227AF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Диаграмма 5" descr=""/>
          <p:cNvPicPr/>
          <p:nvPr/>
        </p:nvPicPr>
        <p:blipFill>
          <a:blip r:embed="rId1"/>
          <a:stretch/>
        </p:blipFill>
        <p:spPr>
          <a:xfrm>
            <a:off x="0" y="0"/>
            <a:ext cx="868032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Разница в бюджетной обеспеченности до и после выравнивания в 2011 году</a:t>
            </a:r>
            <a:br>
              <a:rPr sz="4000"/>
            </a:b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(рассчитана по 10 наименее и 10 максимально обеспеченным регион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2EE7-A360-440F-85C6-9F814A01F4C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Диаграмма 6" descr=""/>
          <p:cNvPicPr/>
          <p:nvPr/>
        </p:nvPicPr>
        <p:blipFill>
          <a:blip r:embed="rId1"/>
          <a:stretch/>
        </p:blipFill>
        <p:spPr>
          <a:xfrm>
            <a:off x="749160" y="1547640"/>
            <a:ext cx="7645680" cy="47674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ая соединительная линия 8"/>
          <p:cNvSpPr/>
          <p:nvPr/>
        </p:nvSpPr>
        <p:spPr>
          <a:xfrm flipH="1">
            <a:off x="1455840" y="4870440"/>
            <a:ext cx="1440" cy="100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9"/>
          <p:cNvSpPr/>
          <p:nvPr/>
        </p:nvSpPr>
        <p:spPr>
          <a:xfrm flipH="1">
            <a:off x="4830840" y="4853160"/>
            <a:ext cx="1440" cy="100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12"/>
          <p:cNvSpPr/>
          <p:nvPr/>
        </p:nvSpPr>
        <p:spPr>
          <a:xfrm flipH="1">
            <a:off x="8203680" y="4849920"/>
            <a:ext cx="1800" cy="100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16"/>
          <p:cNvSpPr/>
          <p:nvPr/>
        </p:nvSpPr>
        <p:spPr>
          <a:xfrm flipH="1">
            <a:off x="3142800" y="4857840"/>
            <a:ext cx="180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7"/>
          <p:cNvSpPr/>
          <p:nvPr/>
        </p:nvSpPr>
        <p:spPr>
          <a:xfrm flipH="1">
            <a:off x="6515280" y="4861080"/>
            <a:ext cx="1440" cy="50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5C2E-4C9B-43C7-838C-5AC9D31C9E8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Бюджетная обеспеченность регионов до и после субсид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Диаграмма 8" descr=""/>
          <p:cNvPicPr/>
          <p:nvPr/>
        </p:nvPicPr>
        <p:blipFill>
          <a:blip r:embed="rId1"/>
          <a:stretch/>
        </p:blipFill>
        <p:spPr>
          <a:xfrm>
            <a:off x="231840" y="1189080"/>
            <a:ext cx="87408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Дисбаланс роли городов в модернизации и передаче иннова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6095-EEB2-4408-BA24-3E35B145484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10"/>
          <p:cNvGrpSpPr/>
          <p:nvPr/>
        </p:nvGrpSpPr>
        <p:grpSpPr>
          <a:xfrm>
            <a:off x="395280" y="1628640"/>
            <a:ext cx="8220240" cy="4684680"/>
            <a:chOff x="395280" y="1628640"/>
            <a:chExt cx="8220240" cy="4684680"/>
          </a:xfrm>
        </p:grpSpPr>
        <p:graphicFrame>
          <p:nvGraphicFramePr>
            <p:cNvPr id="190" name="Object 3"/>
            <p:cNvGraphicFramePr/>
            <p:nvPr/>
          </p:nvGraphicFramePr>
          <p:xfrm>
            <a:off x="395280" y="1628640"/>
            <a:ext cx="8220240" cy="452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1628640"/>
                      <a:ext cx="8220240" cy="452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Oval 4"/>
            <p:cNvSpPr/>
            <p:nvPr/>
          </p:nvSpPr>
          <p:spPr>
            <a:xfrm>
              <a:off x="1447560" y="2209680"/>
              <a:ext cx="1093680" cy="1093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.-П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5"/>
            <p:cNvSpPr/>
            <p:nvPr/>
          </p:nvSpPr>
          <p:spPr>
            <a:xfrm>
              <a:off x="2916360" y="2781000"/>
              <a:ext cx="914400" cy="9144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зан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6"/>
            <p:cNvSpPr/>
            <p:nvPr/>
          </p:nvSpPr>
          <p:spPr>
            <a:xfrm>
              <a:off x="2987640" y="4149720"/>
              <a:ext cx="914400" cy="9144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остов-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-Дон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7"/>
            <p:cNvSpPr/>
            <p:nvPr/>
          </p:nvSpPr>
          <p:spPr>
            <a:xfrm>
              <a:off x="2627280" y="4724280"/>
              <a:ext cx="914400" cy="9144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Екатерин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бур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8"/>
            <p:cNvSpPr/>
            <p:nvPr/>
          </p:nvSpPr>
          <p:spPr>
            <a:xfrm>
              <a:off x="3058920" y="3500280"/>
              <a:ext cx="914400" cy="9144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ама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9"/>
            <p:cNvSpPr/>
            <p:nvPr/>
          </p:nvSpPr>
          <p:spPr>
            <a:xfrm>
              <a:off x="1218960" y="3428640"/>
              <a:ext cx="1382760" cy="1382760"/>
            </a:xfrm>
            <a:prstGeom prst="ellipse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оск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0"/>
            <p:cNvSpPr/>
            <p:nvPr/>
          </p:nvSpPr>
          <p:spPr>
            <a:xfrm>
              <a:off x="2268360" y="5229000"/>
              <a:ext cx="914400" cy="9144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Новоси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бирс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"/>
            <p:cNvSpPr/>
            <p:nvPr/>
          </p:nvSpPr>
          <p:spPr>
            <a:xfrm flipV="1">
              <a:off x="1828800" y="3276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 flipV="1">
              <a:off x="2514600" y="358092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>
              <a:off x="259092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2514600" y="441936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2133360" y="4724280"/>
              <a:ext cx="49356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"/>
            <p:cNvSpPr/>
            <p:nvPr/>
          </p:nvSpPr>
          <p:spPr>
            <a:xfrm>
              <a:off x="3924360" y="2276280"/>
              <a:ext cx="590400" cy="590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Воронеж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7"/>
            <p:cNvSpPr/>
            <p:nvPr/>
          </p:nvSpPr>
          <p:spPr>
            <a:xfrm>
              <a:off x="4356000" y="2565000"/>
              <a:ext cx="517320" cy="504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8"/>
            <p:cNvSpPr/>
            <p:nvPr/>
          </p:nvSpPr>
          <p:spPr>
            <a:xfrm>
              <a:off x="4572000" y="3428640"/>
              <a:ext cx="590400" cy="590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Липец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9"/>
            <p:cNvSpPr/>
            <p:nvPr/>
          </p:nvSpPr>
          <p:spPr>
            <a:xfrm>
              <a:off x="4500720" y="3933720"/>
              <a:ext cx="590400" cy="590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Красн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да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0"/>
            <p:cNvSpPr/>
            <p:nvPr/>
          </p:nvSpPr>
          <p:spPr>
            <a:xfrm>
              <a:off x="3851280" y="1915920"/>
              <a:ext cx="590400" cy="590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"/>
            <p:cNvSpPr/>
            <p:nvPr/>
          </p:nvSpPr>
          <p:spPr>
            <a:xfrm>
              <a:off x="4716720" y="4724280"/>
              <a:ext cx="590400" cy="590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2"/>
            <p:cNvSpPr/>
            <p:nvPr/>
          </p:nvSpPr>
          <p:spPr>
            <a:xfrm>
              <a:off x="4500720" y="5084640"/>
              <a:ext cx="590400" cy="590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Томс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3"/>
            <p:cNvSpPr/>
            <p:nvPr/>
          </p:nvSpPr>
          <p:spPr>
            <a:xfrm>
              <a:off x="4191120" y="5410080"/>
              <a:ext cx="590400" cy="590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 flipV="1">
              <a:off x="3564000" y="285228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3657600" y="3047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6"/>
            <p:cNvSpPr/>
            <p:nvPr/>
          </p:nvSpPr>
          <p:spPr>
            <a:xfrm flipV="1">
              <a:off x="3962520" y="380952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3780000" y="4221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8"/>
            <p:cNvSpPr/>
            <p:nvPr/>
          </p:nvSpPr>
          <p:spPr>
            <a:xfrm>
              <a:off x="3809880" y="5638680"/>
              <a:ext cx="590400" cy="590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Иркутс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9"/>
            <p:cNvSpPr/>
            <p:nvPr/>
          </p:nvSpPr>
          <p:spPr>
            <a:xfrm>
              <a:off x="4788000" y="2781000"/>
              <a:ext cx="458640" cy="415800"/>
            </a:xfrm>
            <a:prstGeom prst="ellipse">
              <a:avLst/>
            </a:prstGeom>
            <a:solidFill>
              <a:srgbClr val="c2f4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Чере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ове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30"/>
            <p:cNvSpPr/>
            <p:nvPr/>
          </p:nvSpPr>
          <p:spPr>
            <a:xfrm>
              <a:off x="5562720" y="1752120"/>
              <a:ext cx="301320" cy="30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31"/>
            <p:cNvSpPr/>
            <p:nvPr/>
          </p:nvSpPr>
          <p:spPr>
            <a:xfrm>
              <a:off x="6019920" y="2285640"/>
              <a:ext cx="301320" cy="30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32"/>
            <p:cNvSpPr/>
            <p:nvPr/>
          </p:nvSpPr>
          <p:spPr>
            <a:xfrm>
              <a:off x="4716720" y="3141360"/>
              <a:ext cx="46188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33"/>
            <p:cNvSpPr/>
            <p:nvPr/>
          </p:nvSpPr>
          <p:spPr>
            <a:xfrm>
              <a:off x="6248520" y="2819160"/>
              <a:ext cx="301320" cy="30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34"/>
            <p:cNvSpPr/>
            <p:nvPr/>
          </p:nvSpPr>
          <p:spPr>
            <a:xfrm>
              <a:off x="6172560" y="3124080"/>
              <a:ext cx="301320" cy="30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35"/>
            <p:cNvSpPr/>
            <p:nvPr/>
          </p:nvSpPr>
          <p:spPr>
            <a:xfrm>
              <a:off x="6096240" y="4724280"/>
              <a:ext cx="301320" cy="30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36"/>
            <p:cNvSpPr/>
            <p:nvPr/>
          </p:nvSpPr>
          <p:spPr>
            <a:xfrm>
              <a:off x="6324840" y="3809880"/>
              <a:ext cx="301320" cy="30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37"/>
            <p:cNvSpPr/>
            <p:nvPr/>
          </p:nvSpPr>
          <p:spPr>
            <a:xfrm>
              <a:off x="1042920" y="3284280"/>
              <a:ext cx="301320" cy="30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38"/>
            <p:cNvSpPr/>
            <p:nvPr/>
          </p:nvSpPr>
          <p:spPr>
            <a:xfrm>
              <a:off x="5791320" y="1981080"/>
              <a:ext cx="301320" cy="30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39"/>
            <p:cNvSpPr/>
            <p:nvPr/>
          </p:nvSpPr>
          <p:spPr>
            <a:xfrm>
              <a:off x="6324840" y="4114800"/>
              <a:ext cx="301320" cy="30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40"/>
            <p:cNvSpPr/>
            <p:nvPr/>
          </p:nvSpPr>
          <p:spPr>
            <a:xfrm>
              <a:off x="6324840" y="3428640"/>
              <a:ext cx="301320" cy="30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41"/>
            <p:cNvSpPr/>
            <p:nvPr/>
          </p:nvSpPr>
          <p:spPr>
            <a:xfrm>
              <a:off x="6172560" y="2590560"/>
              <a:ext cx="301320" cy="30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42"/>
            <p:cNvSpPr/>
            <p:nvPr/>
          </p:nvSpPr>
          <p:spPr>
            <a:xfrm>
              <a:off x="6172560" y="4419360"/>
              <a:ext cx="301320" cy="30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43"/>
            <p:cNvSpPr/>
            <p:nvPr/>
          </p:nvSpPr>
          <p:spPr>
            <a:xfrm>
              <a:off x="5943600" y="5029200"/>
              <a:ext cx="301320" cy="30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44"/>
            <p:cNvSpPr/>
            <p:nvPr/>
          </p:nvSpPr>
          <p:spPr>
            <a:xfrm>
              <a:off x="5867640" y="5334120"/>
              <a:ext cx="301320" cy="30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 flipV="1">
              <a:off x="2590920" y="3124080"/>
              <a:ext cx="2514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46"/>
            <p:cNvSpPr/>
            <p:nvPr/>
          </p:nvSpPr>
          <p:spPr>
            <a:xfrm>
              <a:off x="826920" y="3500280"/>
              <a:ext cx="301320" cy="30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47"/>
            <p:cNvSpPr/>
            <p:nvPr/>
          </p:nvSpPr>
          <p:spPr>
            <a:xfrm>
              <a:off x="826920" y="3860640"/>
              <a:ext cx="301320" cy="30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48"/>
            <p:cNvSpPr/>
            <p:nvPr/>
          </p:nvSpPr>
          <p:spPr>
            <a:xfrm>
              <a:off x="826920" y="4221000"/>
              <a:ext cx="301320" cy="30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085080" y="1773000"/>
              <a:ext cx="0" cy="4038840"/>
            </a:xfrm>
            <a:prstGeom prst="line">
              <a:avLst/>
            </a:prstGeom>
            <a:ln w="3168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50"/>
            <p:cNvSpPr/>
            <p:nvPr/>
          </p:nvSpPr>
          <p:spPr>
            <a:xfrm>
              <a:off x="6659640" y="2133360"/>
              <a:ext cx="1454040" cy="609480"/>
            </a:xfrm>
            <a:prstGeom prst="wedgeRectCallout">
              <a:avLst>
                <a:gd name="adj1" fmla="val -43518"/>
                <a:gd name="adj2" fmla="val 7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ЛОГРИ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51"/>
            <p:cNvSpPr/>
            <p:nvPr/>
          </p:nvSpPr>
          <p:spPr>
            <a:xfrm>
              <a:off x="6732720" y="4437000"/>
              <a:ext cx="1454040" cy="609480"/>
            </a:xfrm>
            <a:prstGeom prst="wedgeRectCallout">
              <a:avLst>
                <a:gd name="adj1" fmla="val -43518"/>
                <a:gd name="adj2" fmla="val 7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РЮПИНС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5148360" y="1915920"/>
              <a:ext cx="0" cy="4397400"/>
            </a:xfrm>
            <a:prstGeom prst="line">
              <a:avLst/>
            </a:prstGeom>
            <a:ln w="31680">
              <a:solidFill>
                <a:srgbClr val="ff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53"/>
            <p:cNvSpPr/>
            <p:nvPr/>
          </p:nvSpPr>
          <p:spPr>
            <a:xfrm>
              <a:off x="2916360" y="1773000"/>
              <a:ext cx="1511280" cy="485640"/>
            </a:xfrm>
            <a:prstGeom prst="rightArrow">
              <a:avLst>
                <a:gd name="adj1" fmla="val 50000"/>
                <a:gd name="adj2" fmla="val 77798"/>
              </a:avLst>
            </a:prstGeom>
            <a:solidFill>
              <a:srgbClr val="4f81bd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РГОВЫЕ СЕ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3733920" y="525780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3809880" y="502920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2590920" y="4038480"/>
              <a:ext cx="2362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8"/>
            <p:cNvSpPr/>
            <p:nvPr/>
          </p:nvSpPr>
          <p:spPr>
            <a:xfrm>
              <a:off x="3657600" y="53341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9"/>
            <p:cNvSpPr/>
            <p:nvPr/>
          </p:nvSpPr>
          <p:spPr>
            <a:xfrm flipV="1">
              <a:off x="3505320" y="243828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60"/>
            <p:cNvSpPr/>
            <p:nvPr/>
          </p:nvSpPr>
          <p:spPr>
            <a:xfrm flipV="1">
              <a:off x="2195280" y="2204640"/>
              <a:ext cx="1523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61"/>
            <p:cNvSpPr/>
            <p:nvPr/>
          </p:nvSpPr>
          <p:spPr>
            <a:xfrm>
              <a:off x="4643640" y="5589720"/>
              <a:ext cx="1442880" cy="485640"/>
            </a:xfrm>
            <a:prstGeom prst="rightArrow">
              <a:avLst>
                <a:gd name="adj1" fmla="val 50000"/>
                <a:gd name="adj2" fmla="val 74277"/>
              </a:avLst>
            </a:prstGeom>
            <a:solidFill>
              <a:srgbClr val="4f81bd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ТОВАЯ СВЯЗ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62"/>
            <p:cNvSpPr/>
            <p:nvPr/>
          </p:nvSpPr>
          <p:spPr>
            <a:xfrm>
              <a:off x="3924360" y="4508280"/>
              <a:ext cx="1155600" cy="485640"/>
            </a:xfrm>
            <a:prstGeom prst="rightArrow">
              <a:avLst>
                <a:gd name="adj1" fmla="val 50000"/>
                <a:gd name="adj2" fmla="val 59489"/>
              </a:avLst>
            </a:prstGeom>
            <a:solidFill>
              <a:srgbClr val="4f81bd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НТЕР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>
              <a:off x="4500720" y="1915920"/>
              <a:ext cx="0" cy="4038840"/>
            </a:xfrm>
            <a:prstGeom prst="line">
              <a:avLst/>
            </a:prstGeom>
            <a:ln w="31680">
              <a:solidFill>
                <a:srgbClr val="00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5004000" y="4365360"/>
              <a:ext cx="476280" cy="453960"/>
            </a:xfrm>
            <a:prstGeom prst="ellipse">
              <a:avLst/>
            </a:prstGeom>
            <a:solidFill>
              <a:srgbClr val="c2f4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Сургу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5"/>
            <p:cNvSpPr/>
            <p:nvPr/>
          </p:nvSpPr>
          <p:spPr>
            <a:xfrm flipH="1">
              <a:off x="970920" y="4292640"/>
              <a:ext cx="43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66"/>
            <p:cNvSpPr/>
            <p:nvPr/>
          </p:nvSpPr>
          <p:spPr>
            <a:xfrm flipH="1" flipV="1">
              <a:off x="1042560" y="3644640"/>
              <a:ext cx="360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67"/>
            <p:cNvSpPr/>
            <p:nvPr/>
          </p:nvSpPr>
          <p:spPr>
            <a:xfrm>
              <a:off x="2700360" y="2204640"/>
              <a:ext cx="914400" cy="9144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Ниж.Нов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гор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Распределение населения по населенным пункт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488B-57DA-4F96-813B-16BD048409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99400" cy="43927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1"/>
          <p:cNvSpPr/>
          <p:nvPr/>
        </p:nvSpPr>
        <p:spPr>
          <a:xfrm>
            <a:off x="826920" y="5589720"/>
            <a:ext cx="273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1.01.2010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99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родов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 – города миллион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 – 500-1000 тыс.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8 – 250-500 тыс.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1 – 100-250 тыс.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3"/>
          <p:cNvSpPr/>
          <p:nvPr/>
        </p:nvSpPr>
        <p:spPr>
          <a:xfrm>
            <a:off x="5219640" y="1628640"/>
            <a:ext cx="936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4284720" y="5589720"/>
            <a:ext cx="3887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3 907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ых образ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12     городских ок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29     муниципальных рай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39     городских посе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591    сельское пос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E30B-922C-4313-B47F-AA5C2305FE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Душевые инвестиции в основной капитал,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тыс. руб. на че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6CDF-FC3F-4A20-B3AE-E387735FD1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3" descr="снимок5.png"/>
          <p:cNvPicPr/>
          <p:nvPr/>
        </p:nvPicPr>
        <p:blipFill>
          <a:blip r:embed="rId1"/>
          <a:stretch/>
        </p:blipFill>
        <p:spPr>
          <a:xfrm>
            <a:off x="7920" y="692280"/>
            <a:ext cx="9136080" cy="5689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142920" y="0"/>
            <a:ext cx="88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Глобальные ри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DD0D-0A61-4E1D-B0FE-1C8189DFF0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Средняя заработная плата,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1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9229-6A8A-4467-A064-34FFE9EB0C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Сверхконцентрация эконом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24000" y="1413000"/>
          <a:ext cx="8496000" cy="3998880"/>
        </p:xfrm>
        <a:graphic>
          <a:graphicData uri="http://schemas.openxmlformats.org/drawingml/2006/table">
            <a:tbl>
              <a:tblPr/>
              <a:tblGrid>
                <a:gridCol w="5543280"/>
                <a:gridCol w="1368720"/>
                <a:gridCol w="15840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от всех субъектов РФ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.-Петербу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естиции (с Московской обл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(1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шняя торгов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варооборот (с Московской обл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(2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од жилья (с Московской обл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(2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бюдж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0E87-EF65-4A13-B9DE-E74BB7A687D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Рост тарифов ЖК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Рисунок 1" descr=""/>
          <p:cNvPicPr/>
          <p:nvPr/>
        </p:nvPicPr>
        <p:blipFill>
          <a:blip r:embed="rId1"/>
          <a:stretch/>
        </p:blipFill>
        <p:spPr>
          <a:xfrm>
            <a:off x="138240" y="2050920"/>
            <a:ext cx="4381200" cy="43452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4" descr=""/>
          <p:cNvPicPr/>
          <p:nvPr/>
        </p:nvPicPr>
        <p:blipFill>
          <a:blip r:embed="rId2"/>
          <a:stretch/>
        </p:blipFill>
        <p:spPr>
          <a:xfrm>
            <a:off x="4365720" y="2041560"/>
            <a:ext cx="4778280" cy="3994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324000" y="1413000"/>
            <a:ext cx="43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намика стоимости отдельных видов коммунальных услуг для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4680000" y="1413000"/>
            <a:ext cx="432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намика стоимости коммунальных услуг для населения и динамика средних цен производителей на отдельные виды энергетичес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alibri"/>
                <a:ea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снимок_eng_3.png"/>
          <p:cNvPicPr/>
          <p:nvPr/>
        </p:nvPicPr>
        <p:blipFill>
          <a:blip r:embed="rId2"/>
          <a:stretch/>
        </p:blipFill>
        <p:spPr>
          <a:xfrm>
            <a:off x="395280" y="1143000"/>
            <a:ext cx="8497800" cy="5238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Проблема транспарентности видения прогресс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4EC4-A75A-4E55-980B-582914D10BC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5" descr="снимок7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5724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2B71-835C-468D-98F7-F943348B5D2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Проблема идентификации целей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6"/>
          <p:cNvSpPr/>
          <p:nvPr/>
        </p:nvSpPr>
        <p:spPr>
          <a:xfrm>
            <a:off x="4572000" y="1143000"/>
            <a:ext cx="400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Доходы 0,01%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богатейших людей планеты за послед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30 лет выро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 100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42920" y="0"/>
            <a:ext cx="88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Экономическое</a:t>
            </a:r>
            <a:r>
              <a:rPr b="1" lang="ru-RU" sz="40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нераве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3143160" cy="3186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500040" y="4643280"/>
            <a:ext cx="357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сего 1% жителей Земли владеет 43% находящегося на планете 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5030640" y="3214800"/>
            <a:ext cx="3256200" cy="30114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5007960" y="6000840"/>
            <a:ext cx="133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tyn Tur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1007280" y="4143240"/>
            <a:ext cx="11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www.farukyuc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8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6ACC-4415-4E43-9C4F-5ED273C551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Диаграмма 2" descr=""/>
          <p:cNvPicPr/>
          <p:nvPr/>
        </p:nvPicPr>
        <p:blipFill>
          <a:blip r:embed="rId1"/>
          <a:stretch/>
        </p:blipFill>
        <p:spPr>
          <a:xfrm>
            <a:off x="500040" y="1052640"/>
            <a:ext cx="7715160" cy="5805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643280" y="2286000"/>
            <a:ext cx="32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т 4-5% в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2920" y="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Рост мировой эконом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9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73C6-E453-44B7-BAB0-C642D88BD4E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14560" y="1143000"/>
            <a:ext cx="397188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На Земле достаточно всего для удовлетворения потребностей каждого, но недостаточно для удовлетворения жадности каждого», - Мохандас Ган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0A1E-F1AB-4468-B5CE-140345199DC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Потребность в противовес жад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3958920" cy="32148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579960" y="4929120"/>
            <a:ext cx="161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opyright © Brittany Jack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9882-3692-42DE-82A0-7BD3BB7514A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  <a:ea typeface="Arial"/>
              </a:rPr>
              <a:t>Визуализация позиций стран в соответствии  с ключевыми показателями развит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"/>
          <p:cNvPicPr/>
          <p:nvPr/>
        </p:nvPicPr>
        <p:blipFill>
          <a:blip r:embed="rId2"/>
          <a:stretch/>
        </p:blipFill>
        <p:spPr>
          <a:xfrm>
            <a:off x="0" y="1216080"/>
            <a:ext cx="9144000" cy="509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ao579</cp:lastModifiedBy>
  <dcterms:modified xsi:type="dcterms:W3CDTF">2011-10-18T07:34:20Z</dcterms:modified>
  <cp:revision>248</cp:revision>
  <dc:subject/>
  <dc:title>Слайд 1</dc:title>
</cp:coreProperties>
</file>